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4D2-58DC-4AEF-A794-4F46FC503C6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C8B-8A12-4006-817F-BAA7061027D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DEE-FEDC-49A4-8866-F6B5C042A56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49B-EA83-4732-B334-97B7CB62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769-E078-4290-A33B-9464F904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5A9C-ED76-4F5E-B07A-13DF3CE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8319-24DB-4A8D-8024-82DD044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0EB2-93EB-49D6-B4DD-6F8B3493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D0E74-B061-41F7-8172-882AF26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225B1-109F-4659-8559-7666A94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42C84-DA4E-46AF-A415-73CB949A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5C3C9-2780-4BEB-AE52-CA6535D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91313-09DB-4ABF-AB73-F5EAF19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FD15-B722-4FBB-AAB2-E9A00489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95F50-47A8-4BB4-8C23-DFEF22CD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752-7DBA-49E7-818B-FEE7100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91DBE-0F67-4C4C-BF32-42DCA1C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849F-3F69-4352-877F-0D1F22D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EDA57-8FEF-4E47-9316-F97D63AB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AD2D4-4CBF-43C1-80BD-BE55E25B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A45E6-9E8F-40B8-8A39-BE1EFCF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ECC0E-8BCF-43CB-8A5D-AD564FE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C2376-60A6-4A29-A235-7BC9237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7E4B9-817D-44F6-BAAF-BBE10F5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46CA6-C261-4DED-BDA8-3609C63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D037A-729A-4D32-9111-BABE150B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971-1919-4EDA-A6A8-2928E7CB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4D12D-FA61-4B33-8873-646B13A9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7BD31-6EAA-4A14-9A67-F6C1A9F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76C0-D92A-45C3-BF69-F5F0A90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9AF7B-AE1C-4B7B-9727-7FA4D17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9293-281C-41E6-A0E5-6DA7DA70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22C1-B958-4F34-89C2-038A52C2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AABF5-123F-438B-8C06-728F8D1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C3E4-C19B-44EA-8118-3DAD6D8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9628-206E-4E99-B3F7-499EB6F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FCBB-069A-4167-8310-D17063A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A0A-3BB9-4E14-B122-DE7424D7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52F5D-F957-4F54-AA43-ABD1461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547E-2C69-4A6F-9133-95466AAC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49AF-134A-48B7-8379-C4C4457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221F-EB78-47C2-B766-E570B909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ED2C6-AA1D-49F7-B9CB-0666B71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3BA63-F81A-451A-B5F4-3CF6839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C930E-C371-447C-B709-9FCF0ED8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FF7A-80D4-4D18-822B-F9DE9E6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A1F1C-ABD0-46FE-AC49-0287EFAD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FB97C-13D2-42FB-87E1-3CC349D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A487-D4D9-4D81-AB0C-1B777EB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F235C-150C-4F61-B0AD-53325AE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1D968-2295-412D-941B-2EC5D77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26E1D-CCC7-4E34-9FE4-EB6F629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2A9FE-EF58-4157-8ABD-6A322479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EC938-A0DF-44E8-AB7E-BFFF89B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AC8-59E7-46B0-B1A2-3C75E1D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4D6-A425-41B6-BCCD-BF1839D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76C-78E7-4EBE-9411-7313E2A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A115-6EC7-4594-9BF4-A73B784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460-B4BA-4BDB-B40D-7FD6FDF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1D6-FDC5-4F3E-AE01-C39BF1C1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236-D616-4035-9282-7DC6CFC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90FA-6584-4C18-A3C0-1D95D26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E9CE-86A6-4ADC-A1D4-9464AC36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CA99-B264-4599-A376-215EF561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5B7-48F6-45BC-8921-D310489C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0E81-7780-4131-9FFD-ACC8E91D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FE6B-0C47-4196-B537-38C7CDD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FB43-5142-4236-B642-037CD97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AB36-D6A7-424A-A10C-8969D9B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7E67-209A-478C-9E84-9DD2A99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E9F-691F-416F-8DB0-2A230E73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B879-DAE7-4D6B-B4B2-EDB1240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7B48-B05F-4DB3-A288-7CB4443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EB14-1F74-4846-B32B-80A838C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52B7-83ED-429C-ADFC-B34230B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E408-8FBF-416A-9826-54BFD1F2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E061-5A33-43A5-A14F-1D9923DC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59AA-3BF0-41E7-AA6E-7291321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26A4-FA96-4C51-A5D0-E8943B89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A9F8-F2EE-41EB-A660-6B5C790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2171-4019-4510-8F41-C715249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1F3-82D6-4976-A0B5-50CA26D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6481-004C-4C2B-AE29-92873D4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29E6-A7F0-4FB5-AF25-1F7DBDE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CEC9-6F46-4EF6-B915-EB0E283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E158-7171-4156-B1CB-FF0162C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26C4-EA40-4A8D-B2CA-E231348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9D0F-6401-4787-B428-1750A2E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1F3F-2CB6-441E-972E-1E22334F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6C96-A27D-47CC-8DDB-1915C13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FEE8-13BE-451E-B433-14E74E2E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6BAA-B6E7-4948-BBF2-463E1FF6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AC6-288E-4A3F-B6DD-776765FB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5EB0-02C2-43D5-A429-3C34AEE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331A-85CC-4A05-A93C-3091B470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EB58-8108-4335-B075-A0830F1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2164D-4FCA-4ED4-9FDC-3633804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145D-A3AE-438D-B0C0-0ED88BF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9869-127D-45FB-9A7E-963493A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769A-D544-4187-AAA2-BE37A83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47FB5-2309-4E63-BFFF-8306CAC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38D0A-5BA6-49EF-A255-C5961F3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5C22-6D7E-42E1-AA03-2B2841AE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391-8221-4172-B93C-1218481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7CFC-99EE-43E0-AC94-8A12E09C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9AEA-7156-4693-91E2-6C2759C5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68FE-CE0A-44CD-BCCF-E69E774F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3C2B-BA9D-41AD-9920-324F7F33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5E3D-3D50-4AD9-A3BE-EC89FB5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6423-FC76-4034-87E0-058B469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4B858-0BED-4AEB-A0D9-EB18BC1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6C2A-32F8-4D10-ABA3-E54A33A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B661-159C-432A-A144-0C1BD23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98770-335F-40C5-93CE-0753BBF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C08-200D-46C2-864B-AC4369F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1028-FA36-4CDC-9B59-4CFA297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C80F-AFAC-449A-837D-AFFCD206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E97A-4479-44FE-B819-397FEE8C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A55E-6859-48C3-B1B5-17E2B44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C2ED-15B3-49C7-834D-D5163C6E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7307-4818-4B99-88F1-FCD2D95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CD5C-1B68-4363-93D1-6AC97C2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94989-CC3E-4005-9EBF-2A28FCFA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4E92-8471-4D49-A714-62126374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446E2-EEB4-43F0-A666-B2A2931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1FD-A3F4-4ACA-89F0-8AE2C0F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E339-E43F-4233-AA64-3006EF7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6C771-10B8-4C53-B943-56CAC1E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6BB7-B8CF-489A-AD51-C4E8BE1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AF88-F359-4D17-B5E9-914BD9F6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F08E-2BA8-4872-8E37-7A8AB292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210CE-BF02-4B22-BD04-3B94468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A434-6342-4C6A-9CAD-D3D300FC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24487-C277-4708-AF84-AAFE01DA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A0BA-68B7-471B-A0CE-40278D0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A015-215A-4B5A-A789-DB0CCF3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4A6-FAC1-45C2-AB02-291620C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1290-481A-4B60-8195-F55F395D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DE7D4-70E1-45EA-BCAB-3F4404C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183DD-16DB-498A-9128-8DDBE98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ADB3-1C12-450B-8C27-E3540A0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A7B4-50B2-43FB-9B4C-8810C9B5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F8BD-DF97-438A-A281-4E9FE245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455E-9043-4FF3-995B-5449EEC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BD4ED-A65D-4573-A92F-A94EC26F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75CA6-636C-48EC-9E9C-3E7B260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BE831-2513-475A-A6A6-9B5A87A9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6960-8857-4B36-B407-8361A42057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1FB2-B1A1-4690-A52C-EA49A195E6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D77-6316-4693-9373-CC7993161A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8D4-407B-4E6E-AEB4-0F9BC9C9BA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FF7-8AE4-45D2-9201-C726EF62F4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0877-61D0-4281-94F5-AE97BA16C0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0E6-EA72-4541-BB34-3B88425312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8422-4541-4B11-A500-CFEA9233E1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D1B-335E-4873-9383-6AD6C397CD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4F8A-5648-4E5E-AD3A-556F1E1A10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5B5-070C-448B-9284-79397503B7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E34-6D55-47DF-8E69-9C6725FEB3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339-18E8-4933-9318-1B938CECF7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4FF-8A63-47BC-A8F1-646A6CB3F6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55AB-ADC6-4C8D-8545-122CCB73D7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0044-177D-4B73-8A73-A76391D0CE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39A-84D8-484F-A2FA-1A1A6A5F95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88A-F218-40A2-AF64-F61CEAB119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E3D0-E0C7-40A5-9B01-A91D4E05DB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103-76C7-49DE-9035-353AB397B4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9D2F-E2FE-432C-9DF6-DEF5051DD2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556A-3538-4F1D-907D-E91A6C9E77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227-9B5A-4253-831B-6C3C3A758C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69B-8681-4FA6-B1F3-9E9D7943E2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上海市企业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(</a:t>
            </a: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集团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)</a:t>
            </a:r>
            <a:br>
              <a:rPr sz="5600"/>
            </a:b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统计年报布置会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国家统计局上海调查总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统计监测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2015</a:t>
            </a: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年</a:t>
            </a:r>
            <a:r>
              <a:rPr b="1" lang="en-US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62329"/>
                </a:solidFill>
                <a:latin typeface="华文新魏"/>
                <a:ea typeface="华文新魏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1" descr=""/>
          <p:cNvPicPr/>
          <p:nvPr/>
        </p:nvPicPr>
        <p:blipFill>
          <a:blip r:embed="rId2"/>
          <a:stretch/>
        </p:blipFill>
        <p:spPr>
          <a:xfrm>
            <a:off x="857160" y="1484280"/>
            <a:ext cx="7864560" cy="5302440"/>
          </a:xfrm>
          <a:prstGeom prst="rect">
            <a:avLst/>
          </a:prstGeom>
          <a:ln w="0">
            <a:noFill/>
          </a:ln>
        </p:spPr>
      </p:pic>
      <p:sp>
        <p:nvSpPr>
          <p:cNvPr id="540" name="椭圆 5"/>
          <p:cNvSpPr/>
          <p:nvPr/>
        </p:nvSpPr>
        <p:spPr>
          <a:xfrm>
            <a:off x="5724360" y="1484280"/>
            <a:ext cx="122400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过程中及结束后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或者“保存”按钮进行报表的暂存及保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只有执行保存操作后数据才会存储在服务器上不会丢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次登陆时，点击点击编码框后面的箭头，可以接着上次暂存的报表继续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4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8350200" cy="1225440"/>
          </a:xfrm>
          <a:prstGeom prst="rect">
            <a:avLst/>
          </a:prstGeom>
          <a:ln w="0">
            <a:noFill/>
          </a:ln>
        </p:spPr>
      </p:pic>
      <p:sp>
        <p:nvSpPr>
          <p:cNvPr id="545" name="椭圆 6"/>
          <p:cNvSpPr/>
          <p:nvPr/>
        </p:nvSpPr>
        <p:spPr>
          <a:xfrm>
            <a:off x="682560" y="544680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为浮动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录入浮动行时，录入完一行之后，在本行最后一个单元格点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将会自动增加一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浮动行序号依次填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3……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序号作为本行唯一的标记不能相同，删除序号等于删除本行所有数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“报表处理”页面下，选择“改错”选项，在报表下方会显示出错信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红色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为强制性错误：必须修改错误数据才能上报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Calibri"/>
              </a:rPr>
              <a:t>蓝色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为核实性错误：请查看错误说明并修改数据，若无误不用修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双击错误信息，出错单元格会显示为红色方便修改；修改完数据后点击“复审”按钮，直至无出错信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2"/>
          <a:stretch/>
        </p:blipFill>
        <p:spPr>
          <a:xfrm>
            <a:off x="249120" y="1785960"/>
            <a:ext cx="8645760" cy="10652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3"/>
          <a:stretch/>
        </p:blipFill>
        <p:spPr>
          <a:xfrm>
            <a:off x="266760" y="3292560"/>
            <a:ext cx="8643960" cy="2670120"/>
          </a:xfrm>
          <a:prstGeom prst="rect">
            <a:avLst/>
          </a:prstGeom>
          <a:ln w="0">
            <a:noFill/>
          </a:ln>
        </p:spPr>
      </p:pic>
      <p:sp>
        <p:nvSpPr>
          <p:cNvPr id="557" name="椭圆 6"/>
          <p:cNvSpPr/>
          <p:nvPr/>
        </p:nvSpPr>
        <p:spPr>
          <a:xfrm>
            <a:off x="7885080" y="1916280"/>
            <a:ext cx="10098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7"/>
          <p:cNvSpPr/>
          <p:nvPr/>
        </p:nvSpPr>
        <p:spPr>
          <a:xfrm>
            <a:off x="249120" y="3292560"/>
            <a:ext cx="1370160" cy="641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中错误编号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6-06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错误，涉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两张报表需要注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等部分指标涉及与上年数据的比较，可能需要查询历史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1" descr=""/>
          <p:cNvPicPr/>
          <p:nvPr/>
        </p:nvPicPr>
        <p:blipFill>
          <a:blip r:embed="rId2"/>
          <a:stretch/>
        </p:blipFill>
        <p:spPr>
          <a:xfrm>
            <a:off x="1216080" y="3938760"/>
            <a:ext cx="5300640" cy="2887560"/>
          </a:xfrm>
          <a:prstGeom prst="rect">
            <a:avLst/>
          </a:prstGeom>
          <a:ln w="0">
            <a:noFill/>
          </a:ln>
        </p:spPr>
      </p:pic>
      <p:sp>
        <p:nvSpPr>
          <p:cNvPr id="563" name="椭圆 5"/>
          <p:cNvSpPr/>
          <p:nvPr/>
        </p:nvSpPr>
        <p:spPr>
          <a:xfrm>
            <a:off x="1227240" y="4581360"/>
            <a:ext cx="103968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报表无红色强制错误，且蓝色错误信息都核实无误后方可上报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未通过的审核时先填写上报说明再进行上报，在报表处理页面下，点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更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按钮，选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上报说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弹出的上报说明窗口中，针对核实性错误填写企业实际情况说明，方便统计机构复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报表处理”页面下“上报”按钮即可完成上报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上报为单次操作，每张报表都要执行上报操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" descr=""/>
          <p:cNvPicPr/>
          <p:nvPr/>
        </p:nvPicPr>
        <p:blipFill>
          <a:blip r:embed="rId2"/>
          <a:stretch/>
        </p:blipFill>
        <p:spPr>
          <a:xfrm>
            <a:off x="480960" y="41799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571" name="椭圆 5"/>
          <p:cNvSpPr/>
          <p:nvPr/>
        </p:nvSpPr>
        <p:spPr>
          <a:xfrm>
            <a:off x="5796000" y="4294080"/>
            <a:ext cx="136980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平台“首页”可以看到本期报表的填报状态和上报状态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状态查询”按钮查看各报表具体状态，包括最新修改时间，审核状态，上报状态，验收状态，上报说明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" descr=""/>
          <p:cNvPicPr/>
          <p:nvPr/>
        </p:nvPicPr>
        <p:blipFill>
          <a:blip r:embed="rId2"/>
          <a:stretch/>
        </p:blipFill>
        <p:spPr>
          <a:xfrm>
            <a:off x="949320" y="4365720"/>
            <a:ext cx="7346880" cy="647640"/>
          </a:xfrm>
          <a:prstGeom prst="rect">
            <a:avLst/>
          </a:prstGeom>
          <a:ln w="0">
            <a:noFill/>
          </a:ln>
        </p:spPr>
      </p:pic>
      <p:sp>
        <p:nvSpPr>
          <p:cNvPr id="576" name="椭圆 5"/>
          <p:cNvSpPr/>
          <p:nvPr/>
        </p:nvSpPr>
        <p:spPr>
          <a:xfrm>
            <a:off x="6372360" y="4365720"/>
            <a:ext cx="136980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统计机构验收完成后打印纸质报表并盖公章后寄至统计监测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“报表处理”页面下，点击“更多”按钮，选择“打印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1" descr=""/>
          <p:cNvPicPr/>
          <p:nvPr/>
        </p:nvPicPr>
        <p:blipFill>
          <a:blip r:embed="rId2"/>
          <a:stretch/>
        </p:blipFill>
        <p:spPr>
          <a:xfrm>
            <a:off x="1211400" y="4152960"/>
            <a:ext cx="5878440" cy="2390760"/>
          </a:xfrm>
          <a:prstGeom prst="rect">
            <a:avLst/>
          </a:prstGeom>
          <a:ln w="0">
            <a:noFill/>
          </a:ln>
        </p:spPr>
      </p:pic>
      <p:sp>
        <p:nvSpPr>
          <p:cNvPr id="581" name="椭圆 5"/>
          <p:cNvSpPr/>
          <p:nvPr/>
        </p:nvSpPr>
        <p:spPr>
          <a:xfrm>
            <a:off x="5508720" y="4797360"/>
            <a:ext cx="576000" cy="47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培训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57200" y="2714400"/>
            <a:ext cx="688824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上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年报制度内容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直报程序培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弹出的打印预览窗口，可以拖动窗口下方的“拖动缩放”调整打印的报表大小，拖动到将报表宽度在一个页面中全部显示，然后点击“打印”按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弹出的打印设置对话框中勾选“打印链接的所有文档”（系统不同、打印机不同，设置方法可能稍有差异），然后打印即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2" descr=""/>
          <p:cNvPicPr/>
          <p:nvPr/>
        </p:nvPicPr>
        <p:blipFill>
          <a:blip r:embed="rId2"/>
          <a:stretch/>
        </p:blipFill>
        <p:spPr>
          <a:xfrm>
            <a:off x="928800" y="88920"/>
            <a:ext cx="7851600" cy="6769080"/>
          </a:xfrm>
          <a:prstGeom prst="rect">
            <a:avLst/>
          </a:prstGeom>
          <a:ln w="0">
            <a:noFill/>
          </a:ln>
        </p:spPr>
      </p:pic>
      <p:sp>
        <p:nvSpPr>
          <p:cNvPr id="588" name="椭圆 6"/>
          <p:cNvSpPr/>
          <p:nvPr/>
        </p:nvSpPr>
        <p:spPr>
          <a:xfrm>
            <a:off x="2411280" y="6094440"/>
            <a:ext cx="57636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" descr=""/>
          <p:cNvPicPr/>
          <p:nvPr/>
        </p:nvPicPr>
        <p:blipFill>
          <a:blip r:embed="rId2"/>
          <a:stretch/>
        </p:blipFill>
        <p:spPr>
          <a:xfrm>
            <a:off x="1330200" y="258840"/>
            <a:ext cx="7532640" cy="6357960"/>
          </a:xfrm>
          <a:prstGeom prst="rect">
            <a:avLst/>
          </a:prstGeom>
          <a:ln w="0">
            <a:noFill/>
          </a:ln>
        </p:spPr>
      </p:pic>
      <p:sp>
        <p:nvSpPr>
          <p:cNvPr id="591" name="椭圆 6"/>
          <p:cNvSpPr/>
          <p:nvPr/>
        </p:nvSpPr>
        <p:spPr>
          <a:xfrm>
            <a:off x="2266920" y="692280"/>
            <a:ext cx="792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7"/>
          <p:cNvSpPr/>
          <p:nvPr/>
        </p:nvSpPr>
        <p:spPr>
          <a:xfrm>
            <a:off x="1619280" y="2781360"/>
            <a:ext cx="5032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4" name="TextBox 3"/>
          <p:cNvSpPr/>
          <p:nvPr/>
        </p:nvSpPr>
        <p:spPr>
          <a:xfrm>
            <a:off x="1341360" y="7700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标题 1"/>
          <p:cNvSpPr/>
          <p:nvPr/>
        </p:nvSpPr>
        <p:spPr>
          <a:xfrm>
            <a:off x="682560" y="1700280"/>
            <a:ext cx="77724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开网时间：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5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截止时间：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5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0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7" name="标题 1"/>
          <p:cNvSpPr/>
          <p:nvPr/>
        </p:nvSpPr>
        <p:spPr>
          <a:xfrm>
            <a:off x="971640" y="1159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内容占位符 2"/>
          <p:cNvSpPr/>
          <p:nvPr/>
        </p:nvSpPr>
        <p:spPr>
          <a:xfrm>
            <a:off x="755640" y="1571760"/>
            <a:ext cx="7923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QQ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群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32886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地址：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上海市黄浦区威海路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48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号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1710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室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(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200003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传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真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70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邮        箱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jjccbb@126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14240" y="2286000"/>
          <a:ext cx="7607520" cy="2008080"/>
        </p:xfrm>
        <a:graphic>
          <a:graphicData uri="http://schemas.openxmlformats.org/drawingml/2006/table">
            <a:tbl>
              <a:tblPr/>
              <a:tblGrid>
                <a:gridCol w="1951200"/>
                <a:gridCol w="2705040"/>
                <a:gridCol w="29512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电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傅鳌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78158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蔡晗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3303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5144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卫陈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34646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1714680" y="571680"/>
            <a:ext cx="5286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3"/>
          <p:cNvSpPr/>
          <p:nvPr/>
        </p:nvSpPr>
        <p:spPr>
          <a:xfrm>
            <a:off x="2916360" y="2565360"/>
            <a:ext cx="45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a1f28"/>
                </a:solidFill>
                <a:latin typeface="华文新魏"/>
                <a:ea typeface="华文新魏"/>
              </a:rPr>
              <a:t>谢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审核及改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报表上报及打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标题 1"/>
          <p:cNvSpPr/>
          <p:nvPr/>
        </p:nvSpPr>
        <p:spPr>
          <a:xfrm>
            <a:off x="642960" y="10717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报程序培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网上直报平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b3.stats-sh.gov.c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 Explorer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以下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核的浏览器（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浏览器等）登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核（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浏览器不能登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E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及以上版本浏览器不能完整显示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初次登陆的帐号密码均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组织机构代码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88888888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修改密码之后才可登陆平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密码与账号不可相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母区分大小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组织机构代码最后一位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，如不能成功登陆，使用小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登陆即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登陆页面出现如下情形无法输入验证码，需将网页改为“兼容性视图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用户登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3" descr=""/>
          <p:cNvPicPr/>
          <p:nvPr/>
        </p:nvPicPr>
        <p:blipFill>
          <a:blip r:embed="rId2"/>
          <a:stretch/>
        </p:blipFill>
        <p:spPr>
          <a:xfrm>
            <a:off x="944640" y="3068640"/>
            <a:ext cx="71564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平台首页可以看到当前需要录入的报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点击“报表处理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进入编辑”进行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1" descr=""/>
          <p:cNvPicPr/>
          <p:nvPr/>
        </p:nvPicPr>
        <p:blipFill>
          <a:blip r:embed="rId2"/>
          <a:stretch/>
        </p:blipFill>
        <p:spPr>
          <a:xfrm>
            <a:off x="0" y="3860640"/>
            <a:ext cx="6076800" cy="232416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2" descr=""/>
          <p:cNvPicPr/>
          <p:nvPr/>
        </p:nvPicPr>
        <p:blipFill>
          <a:blip r:embed="rId3"/>
          <a:stretch/>
        </p:blipFill>
        <p:spPr>
          <a:xfrm>
            <a:off x="6229440" y="3860640"/>
            <a:ext cx="2870280" cy="2162160"/>
          </a:xfrm>
          <a:prstGeom prst="rect">
            <a:avLst/>
          </a:prstGeom>
          <a:ln w="0">
            <a:noFill/>
          </a:ln>
        </p:spPr>
      </p:pic>
      <p:sp>
        <p:nvSpPr>
          <p:cNvPr id="526" name="椭圆 4"/>
          <p:cNvSpPr/>
          <p:nvPr/>
        </p:nvSpPr>
        <p:spPr>
          <a:xfrm>
            <a:off x="3419640" y="3822840"/>
            <a:ext cx="863280" cy="426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椭圆 8"/>
          <p:cNvSpPr/>
          <p:nvPr/>
        </p:nvSpPr>
        <p:spPr>
          <a:xfrm>
            <a:off x="7232760" y="4249800"/>
            <a:ext cx="72540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先录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T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并且保存后才可以录入其他报表；其他表间没有录入先后顺序限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页面左上角“编码”后面的框里为组织机构代码（请勿修改），点击编码框后面的箭头 ，将会自动填充表中组织机构代码字段，即可开始录入报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2" descr=""/>
          <p:cNvPicPr/>
          <p:nvPr/>
        </p:nvPicPr>
        <p:blipFill>
          <a:blip r:embed="rId2"/>
          <a:stretch/>
        </p:blipFill>
        <p:spPr>
          <a:xfrm>
            <a:off x="539640" y="5373720"/>
            <a:ext cx="8350200" cy="1225440"/>
          </a:xfrm>
          <a:prstGeom prst="rect">
            <a:avLst/>
          </a:prstGeom>
          <a:ln w="0">
            <a:noFill/>
          </a:ln>
        </p:spPr>
      </p:pic>
      <p:sp>
        <p:nvSpPr>
          <p:cNvPr id="532" name="椭圆 8"/>
          <p:cNvSpPr/>
          <p:nvPr/>
        </p:nvSpPr>
        <p:spPr>
          <a:xfrm>
            <a:off x="5076720" y="6094440"/>
            <a:ext cx="576360" cy="47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方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选择题以及区划代码、行业类别等指标，在对应框中双击，弹出选择代码对话框，在其中单击指标即可自动填入。也可直接录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财务指标等直接录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录入完一个单元格后按“回车键”可以直接跳转到下一个单元格继续录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报表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52:00Z</dcterms:created>
  <dc:creator>tjj</dc:creator>
  <dc:description/>
  <dc:language>en-US</dc:language>
  <cp:lastModifiedBy>weichenquan</cp:lastModifiedBy>
  <dcterms:modified xsi:type="dcterms:W3CDTF">2015-03-09T08:45:59Z</dcterms:modified>
  <cp:revision>4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