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C6D-C9B5-49C9-801F-F4D649E906C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D65-E882-4B65-B82F-D2CE3262A41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海市统计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8446-AD9B-46FA-B3C7-E9E5FE800AF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34E-A430-46E5-A87B-4435188D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E57-A305-46D7-8F06-7C4DBFE1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634BC-B819-4C75-848B-696ABE8E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E671-7C6E-4188-885E-4FD673C8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451D-1C18-472B-B823-D5C86798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2D6C-2A5E-4AC8-97D0-D5C4290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BA4E4-EAD3-4024-906E-56A48098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1EA43-E6D0-4F2F-878D-B6A5BA0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D08B0-AD20-4DED-8CFE-470810C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DF52D-45F3-44D4-8CE5-0CA19447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7E24B-325A-47E5-81C7-F895A789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6BF1A-87CB-4005-8DCE-E9EB6B51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837-E5BB-4C86-92D2-36D5878B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8F425-1FB1-476D-99D4-3F2FED5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F4E1-77F7-4F82-BA61-C1A04AC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8BB4-ACFE-4A08-9D00-26FBE5A8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3D53-D6F4-45C9-961E-FEF47F84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641E4-C75A-4528-B40F-585ABE68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2D748-218C-420F-96D8-83046ADF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7414C-3107-4884-B445-12CEB36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E264C-8205-4F14-BEDB-17A1931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DF515-448B-4CEF-943B-428705C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40363-E9B8-45D0-9778-527485DE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2EB-0F00-4BD7-9C26-FB219375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F7E4-D958-45B1-947D-08DCA0CA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7EF0D-B88B-4322-8318-22F5ABB3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2AF93-4FA8-4A0B-B1D6-9468624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97D6-0175-4578-BCEC-E0E38EB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EFF2B-7BE7-4FB6-8A9A-9DFE5332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9E0E-6E8A-4967-8D07-5D902F44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BA01D-663F-4E78-B403-D9B73F79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4157-5CB5-46B3-A552-FCF5BA5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08AD9-0A29-4A86-BDC3-E39A510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DF94-AA8C-423E-8B45-FBC7DD1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A8C8-822B-4166-AB45-6FE656B7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F7066-04A5-4C6A-8DDA-1E49BE0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AE540-9F2B-4386-9126-CC6E401D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72EA-00F5-4F86-BF2E-79FACC1F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41B1B-877B-479E-B846-5B784623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12D71-42FD-406F-A61D-F5C8736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1B920-B1F3-4D70-A0DD-51FE5602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6EE20-6817-4557-A639-738622A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0479B-B733-4D88-8F79-AD62E9C5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4975B-30DD-4AA3-9591-7244B8C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B181F-F632-424E-8439-4AFFD083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6C29-6759-4D49-BF86-89D49A2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B44E-A8C4-4C6E-A947-4415583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2708F-E224-48C0-96AB-8DCB50B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2EAD-0F4D-4BD2-8598-5404018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A73A9-FF82-43F8-927E-BC8B4C95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7FE7C-B5D4-45C5-A229-5BBEEDE5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F1912-D9B8-49F6-A9C3-C6AE39B5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197D3-3476-4D6C-8E89-F1561114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80948-DF96-4BDF-9551-1BA4094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17173-FE50-4DE9-ADDF-0079657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9AAEA-0AE9-4F8B-A2CD-84E80A4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CB63-C763-443B-A9F8-932B89D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691DB-0B6E-4E4E-A445-A99748D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AC50D-8494-412E-AA95-718B0A8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BBA05-E37D-44A6-87CB-26D8707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31080-11B1-4384-AD2C-47DED4B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69204-B32F-4150-A85F-AE50DD1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056DA-3199-49EB-A426-D208D2EC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407DD-C0EE-497A-8556-93C22B7C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165A-6F56-44E9-9888-A1653F6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1430-504B-482B-95EC-92D9BE7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0EBF-E503-4CB0-9E8B-C85FA633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725-B4E4-4840-B35B-509D02C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839-BFD7-4701-85F0-D153F91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C3D-1C00-4ECE-9686-F094470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A82-0A7B-4A85-9DAD-07D2E38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D97A-B389-4402-981B-3D7ACEC2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A787-5125-4C3F-89D7-CE167C93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E17-BD07-4A48-97BF-5D54114B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8ED6-4C4B-4619-8DC2-E8EDDBC7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425B-A7C1-487D-B9D2-EAD23C3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EA55-003A-46F7-8690-47B94B1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F3D6-0C61-4887-A23B-3EEA4F1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A2C7-60D4-419A-B418-BBE5E008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83E-9379-4F26-A465-6A1BC3E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CB94-04C7-42D7-960A-14FFC82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18E9-D81E-4007-B885-B34F747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C87D-A05C-4F80-8652-759887E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FD58-5815-43A7-BB64-E93E0A9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7039-3374-4844-9403-AC79736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DEF7-1D9D-4DE0-A564-FC73D905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08F8-6422-48D1-AB76-06B013E0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8076-3E29-4AD8-BBC2-4205CA60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61DB-82DD-40C1-B751-296C025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93A7-EC72-4B2A-9B12-36A6557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8F2-FBC6-452C-B1D9-5EF165D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A8A9-E45B-4A40-BC78-35D2C7B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C68B-BBAD-4112-B472-8927DE8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7CD9-3AA9-40EE-A513-7A407DC7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BC99-2CC2-4F0A-B850-028EBFF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ACCB-D991-4CB2-946D-0F65EA9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2934-B7D5-4621-94D2-95E3562F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6DCB-2AA3-4108-B207-7AB70B51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7AF4-3041-4EAE-81AF-E2FBDB8F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D34C-B07F-444A-91DC-9CBEFDC0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2703-70E3-4DE9-B542-9F4ED380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DC1-261E-4A09-BB01-34012DD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D8F4-BC8A-436E-ACBC-86F24E6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84C3-0AC4-46FA-9180-C94EB007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C19A-A82E-4B4A-B01B-99110989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B889-9138-4CC1-AED2-D55F0A4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7E62-AC56-4EB4-B7B9-985ED7CF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B7A2-5846-4D0F-A3EC-8C3A3E7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25E1-1FE0-4DD1-A66F-4E7474B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0513-B4B6-485A-B915-43273DE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49BC-E082-4F72-8D90-55C94AB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7D75-3D9F-42A8-BD5B-5ECC5F18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172-0FC0-40D9-BFA3-4EFFC7C8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D9A6-8E23-43FA-82BC-8E691D61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DDAD-7FBC-4707-B08C-377F6E6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772B-3AB9-4A5B-9B7F-95F9B041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90B99-D893-4207-888C-E921461F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7B72-7684-43B2-B9ED-24F4BF1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6A4F-210D-423F-8A64-A5092446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846B-09E0-422C-BEA7-5DB75D0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47CC-DFA0-4414-8F56-E79E504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3411-5A7F-471B-BE97-F83FBC26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FB6C-8985-49BB-AAC5-B254CDA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8CB-BDD8-4666-9F88-80E7DAB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65A7E-585E-4C1D-9F8F-86EB6F2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A130-3075-4767-9F9C-B8D2FCCB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7B5A-2DFC-46FA-B90C-AA0A4B0B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611C-3626-42D9-9C16-C8F92193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359C-31A0-4397-8C00-B33D8457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748D1-F7C0-4732-8502-FE30914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FEA16-8E05-433D-8371-E161624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ECF0-EF3D-4C04-ADCF-F727C58A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E5C1-3BC2-4CF3-B6F1-7198ACD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185F-84E2-4D58-B40C-83DEAE8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02A-289B-435F-8D21-43F7280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5B085-0A93-415D-AFB2-6560F67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361A-1F89-43B2-852E-15AFA92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05631-D047-4584-A2FF-D33C4D4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A59A-2C78-4AD3-93C1-C10D0FE1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5366-D5BC-427A-BB06-CBE21E20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CF5B-04E9-4361-9D04-C6272713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F1C2D-D3FB-4AE7-82FA-8DB5C9AD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0DD9-292C-488C-8311-29BA135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7654-FE01-4B5D-B782-76ECFFF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E390-3557-4E8B-BA5E-AA0761F3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46E-A53E-4EED-A72C-6F8A807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D3D6-603E-4160-9DF2-7AA22A1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D11F-170E-476B-A446-A7B238A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3E1C-7807-4FAB-80A0-D3990F3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E243D-AE61-4929-AE4B-9A5EE90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B447-A39B-40D3-9321-96E07EA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BC38-8EFF-4597-B965-92D4D4ED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4F66B-99B1-4E3C-8D6C-DF478BDB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EECBB-7AA8-4D7F-A2BC-899B895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D2F0C-EA01-417D-9E78-0FA3B87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4F32F-7C09-465D-8F14-CD3AB19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1D2-9555-4370-8555-A3B20019BB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177-320F-4900-B6AB-F3C3042699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7186-C113-49FF-95AE-F12C78AEFA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908-1701-43FF-AA6A-EBE4510119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B30-6FAF-4782-A4C7-3B1BA29F7A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1BE-4042-45EE-A13B-50E7CE9563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D03D-3976-4DC3-8665-7D3FC3F04A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BA16-B959-40A8-9125-DD4C3729B0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3EE-A383-40DE-A842-64450B5338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9D3-D6C3-4259-923B-62777AE4ED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55C-1C8F-4F34-B6DE-1C5F0CD0C8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F2B-F479-4983-A1B0-D6A018A2E1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8C6-FDBA-4364-992B-815DC0410A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712-5990-4D85-8BBC-E7E4C9E3EF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4495-CB6A-4442-B6EE-FF0D5BDA40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656-5035-4ABF-AD6E-81CFB0208A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F12E-507B-4F4E-8C46-04A232B308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C96-5A22-40C0-9C5A-24CED52575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738-9862-4BEC-AB92-3E80E2C2BA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739-C1F3-4402-ABBE-5C18E97DC9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77F-7752-4E9F-BF60-396295C63B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4B0-8B76-4BAD-846A-30007AB2B2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3AD-46CA-44F2-A24B-89BD7AA2D1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29C9-EA34-498D-90E1-29726522CF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F9F-1841-4C2D-957B-2515F2FC1F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103-B959-4163-AE1F-30B38085F3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上海市企业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(</a:t>
            </a: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集团</a:t>
            </a:r>
            <a:r>
              <a:rPr b="1" lang="en-US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)</a:t>
            </a:r>
            <a:br>
              <a:rPr sz="5600"/>
            </a:br>
            <a:r>
              <a:rPr b="1" lang="zh-CN" sz="5600" spc="-1" strike="noStrike">
                <a:solidFill>
                  <a:srgbClr val="062329"/>
                </a:solidFill>
                <a:latin typeface="华文中宋"/>
                <a:ea typeface="华文中宋"/>
              </a:rPr>
              <a:t>统计年报布置会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国家统计局上海调查总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统计监测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2015</a:t>
            </a: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年</a:t>
            </a:r>
            <a:r>
              <a:rPr b="1" lang="en-US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62329"/>
                </a:solidFill>
                <a:latin typeface="华文新魏"/>
                <a:ea typeface="华文新魏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826560" y="1071720"/>
            <a:ext cx="7959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2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组织机构代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组织机构代码由八位无属性的数字和一位校验码组成。在填写时，要按照市技术监督部门颁发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华人民共和国组织机构代码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的代码填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3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法定代表人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工商登记时的法定代表人姓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4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总经理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的总经理姓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71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5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的</a:t>
            </a:r>
            <a:r>
              <a:rPr b="1" lang="zh-CN" sz="2800" spc="-1" strike="noStrike">
                <a:solidFill>
                  <a:srgbClr val="da1f28"/>
                </a:solidFill>
                <a:latin typeface="华文楷体"/>
                <a:ea typeface="华文楷体"/>
              </a:rPr>
              <a:t>办公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要填写完整，如：上海市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6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区划代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在地区的区划代码，要与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地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应。如黄浦区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10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崇明县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2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境外及外省市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999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07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联系电话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填</a:t>
            </a:r>
            <a:r>
              <a:rPr b="1" lang="zh-CN" sz="3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，要包括企业所在地的地区号码（如上海为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1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08.</a:t>
            </a: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邮政编码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</a:t>
            </a:r>
            <a:r>
              <a:rPr b="1" lang="zh-CN" sz="3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办公地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外邮寄信函使用的邮政编码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857160" y="571320"/>
            <a:ext cx="77155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9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营行业类别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按企业主要从事的生产经营活动进行的分类。按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民经济行业分类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GB/T4754-2011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的行业小类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位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要业务活动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或主要产品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主营业务收入最高的三项业务活动或产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控股情况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国有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集体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私人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港澳台商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外商控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1066680" y="1285920"/>
            <a:ext cx="7720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判断控股的主要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绝对控股：某一经济成分的出资人拥有的实收资本（股本）占比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对控股：某一经济成分的出资人拥有的实收资本（股本）占比虽未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但相对大于其他任何一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协议控股：实收资本（股本）占比虽未大于其他经济成分出资人，但根据协议规定拥有企业实际控制权的一方出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57160" y="999720"/>
            <a:ext cx="3571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登记注册类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在工商行政管理机关登记注册的具有法人资格的各类企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2 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本企业是否为某个法人企业的子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母公司是否为某一法人企业控股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绝对控股和相对控股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子公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643280" y="115920"/>
          <a:ext cx="3714840" cy="65548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体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股份合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体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与集体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49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联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国有独资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9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有限责任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6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独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合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有限责任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74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私营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内资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与港澳台商合资经营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与港澳台商合作经营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港澳台商独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4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港澳台商投资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港澳台商投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1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中外合资经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2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中外合作经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3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外资企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4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外商投资股份有限公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9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其他外商投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857160" y="356760"/>
            <a:ext cx="77155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企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概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中文名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经各级工商行政管理部门核准，进行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册登记的名称。规范化汉字全称，即与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章所使用的名称一致。凡未登记注册的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其名称可用母公司企业名称代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英文名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开使用的英文名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成立时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工商管理部门登记注册的日期。凡未登记注册的企业集团，可以用有关部门批准成立的日期为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71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下属控股上市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属绝对或相对控股的上市公司。含境内或境外各上市公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营行业类别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GB/T4754-2011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要与母公司行业代码区别开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主要业务活动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或主要产品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营业务收入最高的三项业务活动或产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6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否执行合并会计报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此为本市企业集团排名的主要依据，未执行合并会计报表的企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参与排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5"/>
          <p:cNvSpPr/>
          <p:nvPr/>
        </p:nvSpPr>
        <p:spPr>
          <a:xfrm>
            <a:off x="1785960" y="35712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否执行合并会计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示 15" descr=""/>
          <p:cNvPicPr/>
          <p:nvPr/>
        </p:nvPicPr>
        <p:blipFill>
          <a:blip r:embed="rId1"/>
          <a:stretch/>
        </p:blipFill>
        <p:spPr>
          <a:xfrm>
            <a:off x="133200" y="1176480"/>
            <a:ext cx="3732480" cy="5529240"/>
          </a:xfrm>
          <a:prstGeom prst="rect">
            <a:avLst/>
          </a:prstGeom>
          <a:ln w="0">
            <a:noFill/>
          </a:ln>
        </p:spPr>
      </p:pic>
      <p:pic>
        <p:nvPicPr>
          <p:cNvPr id="586" name="图示 16" descr=""/>
          <p:cNvPicPr/>
          <p:nvPr/>
        </p:nvPicPr>
        <p:blipFill>
          <a:blip r:embed="rId2"/>
          <a:stretch/>
        </p:blipFill>
        <p:spPr>
          <a:xfrm>
            <a:off x="2730600" y="1566720"/>
            <a:ext cx="6175440" cy="2011680"/>
          </a:xfrm>
          <a:prstGeom prst="rect">
            <a:avLst/>
          </a:prstGeom>
          <a:ln w="0">
            <a:noFill/>
          </a:ln>
        </p:spPr>
      </p:pic>
      <p:pic>
        <p:nvPicPr>
          <p:cNvPr id="587" name="图示 6" descr=""/>
          <p:cNvPicPr/>
          <p:nvPr/>
        </p:nvPicPr>
        <p:blipFill>
          <a:blip r:embed="rId3"/>
          <a:stretch/>
        </p:blipFill>
        <p:spPr>
          <a:xfrm>
            <a:off x="2584440" y="4352760"/>
            <a:ext cx="6254640" cy="2011680"/>
          </a:xfrm>
          <a:prstGeom prst="rect">
            <a:avLst/>
          </a:prstGeom>
          <a:ln w="0">
            <a:noFill/>
          </a:ln>
        </p:spPr>
      </p:pic>
      <p:sp>
        <p:nvSpPr>
          <p:cNvPr id="588" name="不等于号 7"/>
          <p:cNvSpPr/>
          <p:nvPr/>
        </p:nvSpPr>
        <p:spPr>
          <a:xfrm rot="5400000">
            <a:off x="7536600" y="3750480"/>
            <a:ext cx="1285920" cy="64296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132480 h 642960"/>
              <a:gd name="textAreaBottom" fmla="*/ 510480 h 642960"/>
            </a:gdLst>
            <a:ahLst/>
            <a:rect l="textAreaLeft" t="textAreaTop" r="textAreaRight" b="textAreaBottom"/>
            <a:pathLst>
              <a:path w="1285875" h="642938">
                <a:moveTo>
                  <a:pt x="170443" y="132445"/>
                </a:moveTo>
                <a:lnTo>
                  <a:pt x="631275" y="132445"/>
                </a:lnTo>
                <a:lnTo>
                  <a:pt x="679481" y="0"/>
                </a:lnTo>
                <a:lnTo>
                  <a:pt x="821580" y="51720"/>
                </a:lnTo>
                <a:lnTo>
                  <a:pt x="792198" y="132445"/>
                </a:lnTo>
                <a:lnTo>
                  <a:pt x="1115432" y="132445"/>
                </a:lnTo>
                <a:lnTo>
                  <a:pt x="1115432" y="283664"/>
                </a:lnTo>
                <a:lnTo>
                  <a:pt x="737159" y="283664"/>
                </a:lnTo>
                <a:lnTo>
                  <a:pt x="709640" y="359274"/>
                </a:lnTo>
                <a:lnTo>
                  <a:pt x="1115432" y="359274"/>
                </a:lnTo>
                <a:lnTo>
                  <a:pt x="1115432" y="510493"/>
                </a:lnTo>
                <a:lnTo>
                  <a:pt x="654600" y="510493"/>
                </a:lnTo>
                <a:lnTo>
                  <a:pt x="606394" y="642938"/>
                </a:lnTo>
                <a:lnTo>
                  <a:pt x="464295" y="591218"/>
                </a:lnTo>
                <a:lnTo>
                  <a:pt x="493677" y="510493"/>
                </a:lnTo>
                <a:lnTo>
                  <a:pt x="170443" y="510493"/>
                </a:lnTo>
                <a:lnTo>
                  <a:pt x="170443" y="359274"/>
                </a:lnTo>
                <a:lnTo>
                  <a:pt x="548716" y="359274"/>
                </a:lnTo>
                <a:lnTo>
                  <a:pt x="576235" y="283664"/>
                </a:lnTo>
                <a:lnTo>
                  <a:pt x="170443" y="283664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00040" y="100008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企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财务与劳动工资指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副标题 2"/>
          <p:cNvSpPr/>
          <p:nvPr/>
        </p:nvSpPr>
        <p:spPr>
          <a:xfrm>
            <a:off x="785880" y="192888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合并会计报表制度的集团，财务指标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按合并会计报表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设立合并会计报表的集团，财务指标按母公司与各成员企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加汇总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论是否执行合并会计报表制度，劳动工资指标均应按母公司与各成员企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加汇总数据填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3" name="副标题 2"/>
          <p:cNvSpPr/>
          <p:nvPr/>
        </p:nvSpPr>
        <p:spPr>
          <a:xfrm>
            <a:off x="857160" y="428760"/>
            <a:ext cx="771552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业人员年末人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年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季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末最后一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在本单位中工作，并取得工资或其他形式劳动报酬的人员数。摘录“上海市从业人员和工资总额表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102-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I 102-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填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该指标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在岗职工、劳务派遣人员及其他从业人员之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该指标为时点指标，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包括最后一日当天及以前已与单位解除劳动合同关系的人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培训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57200" y="2714400"/>
            <a:ext cx="688824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1"/>
              </a:spcBef>
              <a:spcAft>
                <a:spcPts val="22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年报制度内容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上直报程序培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50096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劳务派遣人员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用工单位是否直接支付劳动报酬，劳务派遣人员均由实际用工单位填报，而劳务派遣单位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派出单位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填报这些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原则：</a:t>
            </a:r>
            <a:r>
              <a:rPr b="1" lang="zh-CN" sz="3500" spc="-1" strike="noStrike">
                <a:solidFill>
                  <a:srgbClr val="ff0000"/>
                </a:solidFill>
                <a:latin typeface="华文楷体"/>
                <a:ea typeface="华文楷体"/>
              </a:rPr>
              <a:t>谁用工谁统计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57160" y="714240"/>
            <a:ext cx="742968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其他从业人员：指实际参加本单位生产或工作并从本单位取得劳动报酬的其他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非全日制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再就业的离退休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兼职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借用的外单位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第二职业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在各单位中工作的外籍人员和港澳台方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57160" y="765000"/>
            <a:ext cx="771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从业人员不包括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离开本单位仍保留劳动关系，并定期领取生活费的职工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利用课余时间打工的学生及在本单位实习的各类在校学生；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本单位的参军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本单位因劳务外包而使用的人员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57160" y="1053720"/>
            <a:ext cx="771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业人员劳动报酬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企业直接支付给本企业全部从业人员的劳动报酬总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基础工资、职务工资、级别工资、工龄工资、计件工资、奖金、各种津贴和补贴、过节费、交通费、洗理费、书报费、伙食补助等以及由单位为职工代扣代缴的个人所得税、住房公积金、失业保险基金、养老保险基金、大病统筹基金、房租水电费等。不论是以货币形式支付的还是以实物形式支付的，均应列入劳动报酬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71680" y="107172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成员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单位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一览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2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副标题 2"/>
          <p:cNvSpPr/>
          <p:nvPr/>
        </p:nvSpPr>
        <p:spPr>
          <a:xfrm>
            <a:off x="746280" y="1665360"/>
            <a:ext cx="7715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范围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级成员企业（即集团合并成员企业范围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家填写母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填其他一级成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C:\Users\caihanyun\Documents\1.png"/>
          <p:cNvPicPr/>
          <p:nvPr/>
        </p:nvPicPr>
        <p:blipFill>
          <a:blip r:embed="rId2"/>
          <a:stretch/>
        </p:blipFill>
        <p:spPr>
          <a:xfrm>
            <a:off x="4402080" y="3600360"/>
            <a:ext cx="4635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857160" y="1071720"/>
            <a:ext cx="77155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注意区分母公司和企业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差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企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集团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的是合并会计报表的数据，包括所有成员企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母公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的是集团本部的单体报表数据，不包括其他成员企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57160" y="1071720"/>
            <a:ext cx="77155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企业规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指根据国家统计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上大中小微型企业划分办法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统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1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〕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规定，依据从业人员、营业收入、资产总额等指标或替代指标将单位划分为大型、中型、小型和微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单位所在地行政区划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单位所在地填写区（县）级区划代码，为六位阿拉伯数字。如：黄浦区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0101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外省市填写至省级区划，如浙江省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30000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境外填写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9999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14240" y="5475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华文中宋"/>
                <a:ea typeface="华文中宋"/>
              </a:rPr>
              <a:t>需注意的几个表间审核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609480" y="1319040"/>
            <a:ext cx="792324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财务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如果集团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资产总计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≤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资产总计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营业收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≤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营业收入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利润总额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≤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利润总额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609480" y="1319040"/>
            <a:ext cx="79232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如果集团不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资产总计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资产总计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营业收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营业收入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利润总额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利润总额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609480" y="1319040"/>
            <a:ext cx="792324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劳动工资指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7030a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无论集团是否执行合并会计报表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从业人员年末人数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从业人员人数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从业人员年末劳动报酬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从业人员劳动报酬之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000240" y="2571480"/>
            <a:ext cx="47577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纸质报表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手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录本和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标题 1"/>
          <p:cNvSpPr/>
          <p:nvPr/>
        </p:nvSpPr>
        <p:spPr>
          <a:xfrm>
            <a:off x="714240" y="107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会议资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6" name="副标题 5"/>
          <p:cNvSpPr/>
          <p:nvPr/>
        </p:nvSpPr>
        <p:spPr>
          <a:xfrm>
            <a:off x="571680" y="78588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境外投资情况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3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857160" y="1557360"/>
            <a:ext cx="77155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范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境外投资成立的成员企事业单位，成员企业在境外投资成立的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二级、三级等全部对外投资企业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机构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办事处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内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境外企业基本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19" name="副标题 5"/>
          <p:cNvSpPr/>
          <p:nvPr/>
        </p:nvSpPr>
        <p:spPr>
          <a:xfrm>
            <a:off x="571680" y="107316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税费情况调查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4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副标题 2"/>
          <p:cNvSpPr/>
          <p:nvPr/>
        </p:nvSpPr>
        <p:spPr>
          <a:xfrm>
            <a:off x="785880" y="1785960"/>
            <a:ext cx="77151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请先填写企业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否合并纳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合并纳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所有成员企业作为一个整体合并缴纳税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该表只需填写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各项税费的合并数据，无需填写各成员企业各自的税费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57160" y="692280"/>
            <a:ext cx="7715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合并纳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报范围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级成员企业（即集团合并成员企业范围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括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公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家填写母公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填其他一级成员企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似于：企业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24" name="副标题 5"/>
          <p:cNvSpPr/>
          <p:nvPr/>
        </p:nvSpPr>
        <p:spPr>
          <a:xfrm>
            <a:off x="571680" y="107316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调查问卷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5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副标题 2"/>
          <p:cNvSpPr/>
          <p:nvPr/>
        </p:nvSpPr>
        <p:spPr>
          <a:xfrm>
            <a:off x="1185840" y="2347920"/>
            <a:ext cx="65959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治理结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型发展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与创新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93840" y="811080"/>
          <a:ext cx="8356320" cy="5118120"/>
        </p:xfrm>
        <a:graphic>
          <a:graphicData uri="http://schemas.openxmlformats.org/drawingml/2006/table">
            <a:tbl>
              <a:tblPr/>
              <a:tblGrid>
                <a:gridCol w="3528720"/>
                <a:gridCol w="1513080"/>
                <a:gridCol w="331452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报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填报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统计年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母公司及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成员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单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一览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一级成员企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包括企业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母公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境外投资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在境外投资成立的成员企事业单位，成员企业在境外投资成立的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包括二级、三级等全部对外投资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、机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办事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税费情况调查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合并纳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非合并纳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一级成员企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包括企业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母公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调查问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JT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母公司及企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集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28" name="TextBox 3"/>
          <p:cNvSpPr/>
          <p:nvPr/>
        </p:nvSpPr>
        <p:spPr>
          <a:xfrm>
            <a:off x="1341360" y="7700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上报时间和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标题 1"/>
          <p:cNvSpPr/>
          <p:nvPr/>
        </p:nvSpPr>
        <p:spPr>
          <a:xfrm>
            <a:off x="682560" y="1700280"/>
            <a:ext cx="77724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上报方式：网上直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开始时间：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5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截止时间：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15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报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8"/>
          <p:cNvSpPr/>
          <p:nvPr/>
        </p:nvSpPr>
        <p:spPr>
          <a:xfrm>
            <a:off x="1014480" y="3357720"/>
            <a:ext cx="312732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1052640" y="3382920"/>
            <a:ext cx="3051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纸质报表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盖公章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邮寄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快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1"/>
          <p:cNvSpPr/>
          <p:nvPr/>
        </p:nvSpPr>
        <p:spPr>
          <a:xfrm>
            <a:off x="4862520" y="2168640"/>
            <a:ext cx="3852720" cy="89352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4898880" y="2195640"/>
            <a:ext cx="37594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企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集团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统计年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JT1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表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7"/>
          <p:cNvSpPr/>
          <p:nvPr/>
        </p:nvSpPr>
        <p:spPr>
          <a:xfrm>
            <a:off x="1014480" y="5357880"/>
            <a:ext cx="375444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1052640" y="5383080"/>
            <a:ext cx="366228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集团分析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邮寄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快递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电子邮箱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Q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4862520" y="4383000"/>
            <a:ext cx="3852720" cy="8938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5"/>
          <p:cNvSpPr/>
          <p:nvPr/>
        </p:nvSpPr>
        <p:spPr>
          <a:xfrm>
            <a:off x="4898880" y="4410000"/>
            <a:ext cx="3759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企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集团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调查问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(JT5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表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左大括号 19"/>
          <p:cNvSpPr/>
          <p:nvPr/>
        </p:nvSpPr>
        <p:spPr>
          <a:xfrm>
            <a:off x="4300560" y="2525760"/>
            <a:ext cx="428760" cy="24033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03360"/>
              <a:gd name="textAreaBottom" fmla="*/ 2392200 h 24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左大括号 21"/>
          <p:cNvSpPr/>
          <p:nvPr/>
        </p:nvSpPr>
        <p:spPr>
          <a:xfrm>
            <a:off x="514440" y="1928880"/>
            <a:ext cx="428400" cy="3975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3975120"/>
              <a:gd name="textAreaBottom" fmla="*/ 3963960 h 397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8"/>
          <p:cNvSpPr/>
          <p:nvPr/>
        </p:nvSpPr>
        <p:spPr>
          <a:xfrm>
            <a:off x="1014480" y="1500120"/>
            <a:ext cx="3127320" cy="892080"/>
          </a:xfrm>
          <a:prstGeom prst="roundRect">
            <a:avLst>
              <a:gd name="adj" fmla="val 10000"/>
            </a:avLst>
          </a:prstGeom>
          <a:solidFill>
            <a:srgbClr val="cbd4ea">
              <a:alpha val="89000"/>
            </a:srgbClr>
          </a:solidFill>
          <a:ln w="9360">
            <a:solidFill>
              <a:srgbClr val="0c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1052640" y="1525680"/>
            <a:ext cx="3051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电子报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方式：网上直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45" name="标题 1"/>
          <p:cNvSpPr/>
          <p:nvPr/>
        </p:nvSpPr>
        <p:spPr>
          <a:xfrm>
            <a:off x="971640" y="1159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内容占位符 2"/>
          <p:cNvSpPr/>
          <p:nvPr/>
        </p:nvSpPr>
        <p:spPr>
          <a:xfrm>
            <a:off x="755640" y="1571760"/>
            <a:ext cx="7923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QQ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群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32886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地址：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上海市黄浦区威海路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48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号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1710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室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(</a:t>
            </a:r>
            <a:r>
              <a:rPr b="0" lang="en-US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200003</a:t>
            </a:r>
            <a:r>
              <a:rPr b="0" lang="zh-CN" sz="2600" spc="-1" strike="noStrike">
                <a:solidFill>
                  <a:srgbClr val="0c0c0c"/>
                </a:solidFill>
                <a:latin typeface="华文新魏"/>
                <a:ea typeface="华文新魏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传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真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70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8515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邮        箱：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jjccbb@126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14240" y="2286000"/>
          <a:ext cx="7607520" cy="2008080"/>
        </p:xfrm>
        <a:graphic>
          <a:graphicData uri="http://schemas.openxmlformats.org/drawingml/2006/table">
            <a:tbl>
              <a:tblPr/>
              <a:tblGrid>
                <a:gridCol w="1951200"/>
                <a:gridCol w="2705040"/>
                <a:gridCol w="29512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  <a:ea typeface="华文新魏"/>
                        </a:rPr>
                        <a:t>联系电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傅鳌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7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78158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蔡晗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3303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5144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卫陈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385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34646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1"/>
          <p:cNvSpPr/>
          <p:nvPr/>
        </p:nvSpPr>
        <p:spPr>
          <a:xfrm>
            <a:off x="538200" y="1117440"/>
            <a:ext cx="806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上海统计网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ww.stats-sh.gov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页最下方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下载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1341360" y="3319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电子版报表及资料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F:\360截图20140302164527348.png"/>
          <p:cNvPicPr/>
          <p:nvPr/>
        </p:nvPicPr>
        <p:blipFill>
          <a:blip r:embed="rId1"/>
          <a:stretch/>
        </p:blipFill>
        <p:spPr>
          <a:xfrm>
            <a:off x="898560" y="1693800"/>
            <a:ext cx="7126200" cy="1513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F:\360截图20140302165348164.png"/>
          <p:cNvPicPr/>
          <p:nvPr/>
        </p:nvPicPr>
        <p:blipFill>
          <a:blip r:embed="rId2"/>
          <a:stretch/>
        </p:blipFill>
        <p:spPr>
          <a:xfrm>
            <a:off x="898560" y="3822840"/>
            <a:ext cx="7130880" cy="2828880"/>
          </a:xfrm>
          <a:prstGeom prst="rect">
            <a:avLst/>
          </a:prstGeom>
          <a:ln w="0">
            <a:noFill/>
          </a:ln>
        </p:spPr>
      </p:pic>
      <p:sp>
        <p:nvSpPr>
          <p:cNvPr id="652" name="圆角矩形 7"/>
          <p:cNvSpPr/>
          <p:nvPr/>
        </p:nvSpPr>
        <p:spPr>
          <a:xfrm>
            <a:off x="4643280" y="3718080"/>
            <a:ext cx="1586160" cy="2087280"/>
          </a:xfrm>
          <a:custGeom>
            <a:avLst/>
            <a:gdLst>
              <a:gd name="textAreaLeft" fmla="*/ 77400 w 1586160"/>
              <a:gd name="textAreaRight" fmla="*/ 1508760 w 1586160"/>
              <a:gd name="textAreaTop" fmla="*/ 77400 h 2087280"/>
              <a:gd name="textAreaBottom" fmla="*/ 2009880 h 2087280"/>
            </a:gdLst>
            <a:ahLst/>
            <a:rect l="textAreaLeft" t="textAreaTop" r="textAreaRight" b="textAreaBottom"/>
            <a:pathLst>
              <a:path w="21600" h="28423">
                <a:moveTo>
                  <a:pt x="3600" y="0"/>
                </a:moveTo>
                <a:arcTo wR="3600" hR="3600" stAng="16200000" swAng="-5400000"/>
                <a:lnTo>
                  <a:pt x="0" y="24823"/>
                </a:lnTo>
                <a:arcTo wR="3600" hR="3600" stAng="10800000" swAng="-5400000"/>
                <a:lnTo>
                  <a:pt x="18000" y="28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1"/>
          <p:cNvSpPr/>
          <p:nvPr/>
        </p:nvSpPr>
        <p:spPr>
          <a:xfrm>
            <a:off x="393840" y="1555920"/>
            <a:ext cx="828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网上直报平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ttp://wb3.stats-sh.gov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页最左方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公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F:\360截图20140302170016634.png"/>
          <p:cNvPicPr/>
          <p:nvPr/>
        </p:nvPicPr>
        <p:blipFill>
          <a:blip r:embed="rId1"/>
          <a:stretch/>
        </p:blipFill>
        <p:spPr>
          <a:xfrm>
            <a:off x="322200" y="3429000"/>
            <a:ext cx="8621640" cy="2200320"/>
          </a:xfrm>
          <a:prstGeom prst="rect">
            <a:avLst/>
          </a:prstGeom>
          <a:ln w="0">
            <a:noFill/>
          </a:ln>
        </p:spPr>
      </p:pic>
      <p:sp>
        <p:nvSpPr>
          <p:cNvPr id="655" name="圆角矩形 7"/>
          <p:cNvSpPr/>
          <p:nvPr/>
        </p:nvSpPr>
        <p:spPr>
          <a:xfrm>
            <a:off x="393840" y="4149720"/>
            <a:ext cx="324144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报表及指标讲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上报时间和方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电子版报表及资料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标题 1"/>
          <p:cNvSpPr/>
          <p:nvPr/>
        </p:nvSpPr>
        <p:spPr>
          <a:xfrm>
            <a:off x="642960" y="10717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4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年报制度内容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4"/>
          <p:cNvSpPr/>
          <p:nvPr/>
        </p:nvSpPr>
        <p:spPr>
          <a:xfrm>
            <a:off x="1285920" y="2214720"/>
            <a:ext cx="6572160" cy="14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示 1" descr=""/>
          <p:cNvPicPr/>
          <p:nvPr/>
        </p:nvPicPr>
        <p:blipFill>
          <a:blip r:embed="rId1"/>
          <a:stretch/>
        </p:blipFill>
        <p:spPr>
          <a:xfrm>
            <a:off x="-401760" y="865080"/>
            <a:ext cx="95522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658" name="TextBox 2"/>
          <p:cNvSpPr/>
          <p:nvPr/>
        </p:nvSpPr>
        <p:spPr>
          <a:xfrm>
            <a:off x="1714680" y="571680"/>
            <a:ext cx="5286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3"/>
          <p:cNvSpPr/>
          <p:nvPr/>
        </p:nvSpPr>
        <p:spPr>
          <a:xfrm>
            <a:off x="2916360" y="2565360"/>
            <a:ext cx="45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a1f28"/>
                </a:solidFill>
                <a:latin typeface="华文新魏"/>
                <a:ea typeface="华文新魏"/>
              </a:rPr>
              <a:t>谢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57160" y="1785600"/>
            <a:ext cx="7531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14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年报包括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张报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年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境外投资情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税费情况调查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查问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1214280" y="64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报表及指标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42920" y="1357200"/>
            <a:ext cx="75312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减少的报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员企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附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JT2-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1000080" y="64296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年报的差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26920" y="1928520"/>
            <a:ext cx="7715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企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团母公司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基本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企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概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企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集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财务与劳动工资指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副标题 5"/>
          <p:cNvSpPr/>
          <p:nvPr/>
        </p:nvSpPr>
        <p:spPr>
          <a:xfrm>
            <a:off x="571680" y="568440"/>
            <a:ext cx="82152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企业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集团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统计年报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(JT1</a:t>
            </a:r>
            <a:r>
              <a:rPr b="1" lang="zh-CN" sz="3600" spc="-1" strike="noStrike">
                <a:solidFill>
                  <a:srgbClr val="339933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57160" y="1643040"/>
            <a:ext cx="77155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集团与集团母公司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包括企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母公司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各级子公司在内的一个整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集团母公司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是我们所说的企业集团本部，是不包括各级子公司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28800" cy="9558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826920" y="285480"/>
            <a:ext cx="77155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企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团母公司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基本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0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统计登记号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根据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市统计登记办法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依法进行统计登记后，按上海市统计局颁发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登记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码填写，没有统计登记号的填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999999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0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详细名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按各级工商行政管理部门核准，进行企业法人登记的名称填写。在填写时应与企业公章所使用的名称一致。凡经登记主管机关核准或批准具有两个以上名称的单位，要求填写法人名称，同时用括号注明其余的名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52:00Z</dcterms:created>
  <dc:creator>tjj</dc:creator>
  <dc:description/>
  <dc:language>en-US</dc:language>
  <cp:lastModifiedBy>user</cp:lastModifiedBy>
  <dcterms:modified xsi:type="dcterms:W3CDTF">2015-03-10T01:45:00Z</dcterms:modified>
  <cp:revision>4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