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FEE0-F614-4D16-8395-BBD41103C80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D143-EEE4-4E56-BDCC-257E6C5FA0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14FA-286D-4297-940A-6EB9758A815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379-51E6-407B-94FD-FAEFC1E7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446-4469-4B7B-AC56-01F7D14B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25BD8-9B01-445D-AB8D-4A7A3375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58289-A8E2-4E13-B01C-E3A59CAD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ACE29-562A-4014-BB97-6D8B0B69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DE724-7987-4087-BE9B-BAFE595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C8A59-A2C2-4B1C-B2EA-2B54C2B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D8383-5374-481D-A47D-0891D297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94318-98DE-42D1-9AEA-1E46F924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75237-C5A5-43D5-BDB6-DF7840F2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E0E8F-71B5-49CB-A940-F45AAEE3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FFD5B-8C29-4E8E-BA55-AFE375FF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7F9-EBC9-4A9A-8357-163DA622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F9146-47C0-47D3-B021-FB4C7C8F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C24D3-EC87-426E-BF63-31A6BC15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2C872-04E2-4D83-A185-EC095782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70A1C-C636-493E-BAA9-AC27B46D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4B2D9-1D06-4088-98E4-CA012418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DFD18-338F-44DF-A988-01D3CDF0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F96A4-0A97-45CB-A19D-E6B194F0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FF21B-A5B8-48C0-84A9-94AC94B8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1B603-34CF-451A-B643-BD58B828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A04CD-9F05-4BCD-9AC9-356194E7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6F7-C278-493B-B113-E5F7D9AA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B3F12-7ACC-43CC-90BC-F13C9B98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1F70B-6FE6-463B-AAC6-7ADB54E3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184F8-64B6-4A0C-8655-C04321DB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D0945-3823-4766-864B-E2D34F13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DA58B-8287-47B1-9025-9A84D8FF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15AD4-F539-4F26-846B-F9549470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73CF0-FA00-4288-83D2-65F88D3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44A04-150B-4E10-A89C-9D41A654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083F8-7796-4CA9-BDBE-D7ECA932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5F0CA-190C-4F53-9F21-7CBF355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5187-E55C-41D9-9777-D70FF2E4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FD212-ABCE-49AD-8CF3-7473DADD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B7B7E-1A5A-4E14-BB51-14506D38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D9F1D-B794-4184-94A0-E05519C9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A42EB-BA63-45A8-9D4E-BD623911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F8A3C-D1F1-4DC5-9B7F-87553A10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D4590-BFD6-4BB2-9B4A-1ADFEF9D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07AF0-684C-42DD-9EF4-88DC2603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4C545-E2B9-472E-8D61-1A68E5EA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0E656-725E-4325-B8D2-19F99636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C5A37-D264-4C07-9E2F-F9ED51C2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831D-4513-4B2C-A594-F0A6A388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66023-FC5D-4BF8-889C-F5E48D4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FA865-667D-4CCF-AE32-DD061C9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E52F0-6545-4089-8ACF-D40E4810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BB50B-FB4A-4CAF-8477-DC14C40E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0C2F4-2AFD-4223-B7CB-56D452A3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8E27-8FA0-42F7-A367-0CB0A241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33E6-7760-4211-992F-1564DF90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C017-EBA8-463A-9A45-E5CDF346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DFD9-3FCD-4043-A1FD-E69F99B4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F415-4E98-478E-A760-AD01522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083-FBB6-4833-A378-BF4161E1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03B2-ECE4-4619-99ED-ACA5C5CF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C5DD-A1D4-42DD-84F9-506C5CAF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1597-2E3A-4007-BDAC-F6533DF2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FC9B-DDED-42BE-AC29-2DBEDF03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91A8-B2FC-4F31-A716-6EED4CFE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73B8-72AB-4195-B521-9E3334DF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87EA-6696-46B7-A486-D9FF0D2D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7FD4-C8A3-42D0-918A-FDC17301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148F-F61E-4D19-9EE0-8672FB51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7EB6-D4D2-4D11-A5D0-31B1FA21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6A9-6795-453F-A51E-60F464D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EA62-F261-4083-AF09-ADF5F1B3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34BA-35E9-48E0-818B-2ECAA9C6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CD5D-5334-4DAE-90AA-96B7F2E7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351A-E0A2-4346-A520-BB5E793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ACE1-24AD-4243-9C51-3A5C3454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57F8-1664-4DB7-8299-575F1688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9B7E-94E2-418A-912C-E4DC321E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07D8-7591-4749-8D73-663E90A8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D273-B00F-4070-8BEB-66D3B38E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76663-0618-4D03-8F04-6F6D1A24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93E-BB24-4264-A619-0913B92E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36B07-2027-4997-8C7C-9121570A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53C17-0F13-45C2-9370-D0C6185B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18B2-089B-4174-A465-CBCF4027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85275-7A51-4ECF-A62A-39AFBB0F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DCABB-6718-4373-AEE1-86D0AA5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B697-BFA0-4553-8BCF-2FADAEBA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B1C0E-D2E0-410C-AE8A-B7FFEA61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F2BC-0FE1-4D51-B39F-FC57FCA4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87296-CBB8-4B3C-99F6-0E699A66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C70DD-22FB-403B-9AA5-6BEDED1C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E79-6C2C-4723-BD5F-91DBB638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EA538-F4A2-4296-BBA9-5D72C4B3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1D344-F009-4F96-A466-8266A492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3D7C1-1001-481C-B5D3-75AF3FC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52CC-E636-4E5A-908C-D0A33565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407E4-B21A-42BD-A7D1-052B47F5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3074-1E6A-4500-8DC7-C50EE0AD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5AEF6-2B8B-4F9C-9646-1F1C9E3B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F817A-A8CC-485C-B05B-8B1CC7FC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0A3A5-8705-45F1-AADF-492F831B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EDBEC-A60E-465B-B7A6-FCBEE584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289-9EC4-41A9-8AAE-59EA8696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D7BA-0136-47FF-B7C4-164F2783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533B4-EFFD-4C9F-A7BB-858E1DA2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80653-172F-4A13-BEC0-6FC25DB5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7D7FF-EB21-41C5-9184-8FB9C869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CA222-FF6F-416F-8F2B-01F40425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68B2C-C90A-479B-BFAE-C92D6387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22142-8A72-4729-8F7A-5AB08A40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0C91F-7629-4FD4-A6E8-72608537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0EA71-A1CA-4384-9494-09D2DB6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6B275-04E7-4572-BC36-6EEFBF9B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99A-AFC6-461D-9ABD-EBE8679E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CD8F0-8F17-429A-A40D-FCA7D518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781D1-E5FC-4588-B251-2F9B74FD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5FC19-30D4-4677-99BC-363C50E8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82078-E9A5-4A56-96E9-533DFAC6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3F089-6654-4A67-9A81-2AB3DB16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D85A6-D316-44E4-9C49-423BF5B8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6F1E-DC22-4D51-81A3-44B8907A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B48D8-0F30-43B2-884D-4D828C7F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52ED5-7E9B-41B7-BD78-9CA95AA1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D6E59-9EEF-4041-892A-F62DB524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59C-CA0B-4F9C-8116-D922F655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1DC86-17E8-4C73-8037-B40C7D39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7CD30-68F3-4196-B8E1-1B6C5176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18018-DDF3-42D1-904E-560982BC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C43FF-0C1A-4A61-B0BF-2E2A9C3D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35D7B-99DE-4B31-A6E5-2E4F8C00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93318-5AF1-4A07-86F2-87DC6942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4FE2B-F03C-47EA-ABB0-F6B64D2B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A1EEE-14B4-4842-9933-731B281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7F987-AA3D-4181-A9DE-D561E346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5DBF2-3359-402F-B2B9-6D08E087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3C8-CC38-4B89-89C4-3BF5EF4C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29330-38C0-46AE-B54E-5E3A3C5A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B60CD-078D-4817-9D6D-6340F35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7D978-F0DA-4FDE-80EA-E3249A2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46475-04CE-42DC-9A42-2B4693C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B8D26-E553-4B34-855E-F11A57CE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AA45B-4D59-45FE-9C87-E0B649A2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90A03-D0F1-4B73-8932-F7B13638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D13E5-238C-4AF3-AEE0-272735DF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87118-C0F3-4E82-848F-3A9FCE90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94A1F-D1FD-4A7C-A843-1045B096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A1CD-FA2F-48D2-8511-EE445C0FD8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A85E-3C64-4495-8A5A-8052DBFC43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5B89-DCF2-4405-9A63-FB2678DB19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ECB7-FAE6-4C51-8D9C-65EC494BEA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B68-E756-4689-B7E4-BBFEA65F6A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404B-02D6-443E-9F66-986767446A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DB03-C251-4749-A541-8F92D4A630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A14-6403-4CBB-A526-90EB627F7A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6D5B-CB3C-4F1D-A167-473B0B38271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6D4C-2426-4366-B1F1-68EE6CD474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BE6-8D5E-4BF0-82CF-3994CA3D25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7944-8D0C-439D-A9F9-F4A84F11A8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2A0D-EB68-482B-9AFE-7E509E4387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03E8-5B0D-44CC-B976-1A079B2C1A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6E9F-9EC6-4F79-A4D1-905B6A75ED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5DFF-FB5A-4CC8-B77E-2178AFDC99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FBE2-30CA-4E7A-BEED-42C6B2D2E8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C73A-4977-4A7F-B341-7250B78F7E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A347-A534-49B6-971F-29AD76A2CD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BD0E-12DE-441A-847C-C873BB70D3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3266-D215-4744-893B-4EA0A7B5AE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E53A-EFDD-42FB-A92B-A2C20B8484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A52D-17FE-4BA0-B612-2A162A66C83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2C10-38FE-4393-ADC7-A619D2E0D3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112392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上海市企业</a:t>
            </a:r>
            <a:r>
              <a:rPr b="1" lang="en-US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(</a:t>
            </a: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集团</a:t>
            </a:r>
            <a:r>
              <a:rPr b="1" lang="en-US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)</a:t>
            </a:r>
            <a:br>
              <a:rPr sz="5600"/>
            </a:b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统计调查年报布置会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401840" y="4726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国家统计局上海调查总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统计监测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2017</a:t>
            </a:r>
            <a:r>
              <a:rPr b="1" lang="zh-CN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年</a:t>
            </a:r>
            <a:r>
              <a:rPr b="1" lang="en-US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6" descr=""/>
          <p:cNvPicPr/>
          <p:nvPr/>
        </p:nvPicPr>
        <p:blipFill>
          <a:blip r:embed="rId2"/>
          <a:stretch/>
        </p:blipFill>
        <p:spPr>
          <a:xfrm>
            <a:off x="754200" y="1785960"/>
            <a:ext cx="7748280" cy="4754520"/>
          </a:xfrm>
          <a:prstGeom prst="rect">
            <a:avLst/>
          </a:prstGeom>
          <a:ln w="0">
            <a:noFill/>
          </a:ln>
        </p:spPr>
      </p:pic>
      <p:sp>
        <p:nvSpPr>
          <p:cNvPr id="545" name="椭圆 5"/>
          <p:cNvSpPr/>
          <p:nvPr/>
        </p:nvSpPr>
        <p:spPr>
          <a:xfrm>
            <a:off x="1330200" y="4870440"/>
            <a:ext cx="1224000" cy="477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录入过程中及结束后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或者“保存”按钮进行报表的暂存及保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只有执行保存操作后数据才会存储在服务器上不会丢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下次登陆时，点击点击编码框后面的箭头，可以接着上次暂存的报表继续录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1" descr=""/>
          <p:cNvPicPr/>
          <p:nvPr/>
        </p:nvPicPr>
        <p:blipFill>
          <a:blip r:embed="rId2"/>
          <a:stretch/>
        </p:blipFill>
        <p:spPr>
          <a:xfrm>
            <a:off x="609480" y="5302080"/>
            <a:ext cx="8467920" cy="1270080"/>
          </a:xfrm>
          <a:prstGeom prst="rect">
            <a:avLst/>
          </a:prstGeom>
          <a:ln w="0">
            <a:noFill/>
          </a:ln>
        </p:spPr>
      </p:pic>
      <p:sp>
        <p:nvSpPr>
          <p:cNvPr id="550" name="椭圆 6"/>
          <p:cNvSpPr/>
          <p:nvPr/>
        </p:nvSpPr>
        <p:spPr>
          <a:xfrm>
            <a:off x="682560" y="5446800"/>
            <a:ext cx="100800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为浮动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录入浮动行时，录入完一行之后，在本行最后一个单元格点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回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将会自动增加一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浮动行序号依次填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0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0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03……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序号作为本行唯一的标记不能相同，删除序号等于删除本行所有数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858960" y="1944720"/>
            <a:ext cx="7851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“报表处理”页面下，选择“改错”选项，在报表下方会显示出错信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1185840" y="60480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审核及改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图片 6" descr=""/>
          <p:cNvPicPr/>
          <p:nvPr/>
        </p:nvPicPr>
        <p:blipFill>
          <a:blip r:embed="rId2"/>
          <a:stretch/>
        </p:blipFill>
        <p:spPr>
          <a:xfrm>
            <a:off x="825480" y="3527280"/>
            <a:ext cx="8126280" cy="974880"/>
          </a:xfrm>
          <a:prstGeom prst="rect">
            <a:avLst/>
          </a:prstGeom>
          <a:ln w="0">
            <a:noFill/>
          </a:ln>
        </p:spPr>
      </p:pic>
      <p:sp>
        <p:nvSpPr>
          <p:cNvPr id="558" name="椭圆 7"/>
          <p:cNvSpPr/>
          <p:nvPr/>
        </p:nvSpPr>
        <p:spPr>
          <a:xfrm>
            <a:off x="7805880" y="3529080"/>
            <a:ext cx="100944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审核及改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" descr=""/>
          <p:cNvPicPr/>
          <p:nvPr/>
        </p:nvPicPr>
        <p:blipFill>
          <a:blip r:embed="rId2"/>
          <a:stretch/>
        </p:blipFill>
        <p:spPr>
          <a:xfrm>
            <a:off x="650880" y="1359000"/>
            <a:ext cx="7564320" cy="2336760"/>
          </a:xfrm>
          <a:prstGeom prst="rect">
            <a:avLst/>
          </a:prstGeom>
          <a:ln w="0">
            <a:noFill/>
          </a:ln>
        </p:spPr>
      </p:pic>
      <p:sp>
        <p:nvSpPr>
          <p:cNvPr id="562" name="椭圆 7"/>
          <p:cNvSpPr/>
          <p:nvPr/>
        </p:nvSpPr>
        <p:spPr>
          <a:xfrm>
            <a:off x="650880" y="1395360"/>
            <a:ext cx="1198440" cy="461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2"/>
          <p:cNvSpPr/>
          <p:nvPr/>
        </p:nvSpPr>
        <p:spPr>
          <a:xfrm>
            <a:off x="106200" y="4149720"/>
            <a:ext cx="903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红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为强制性错误：必须修改错误数据才能上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蓝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为核实性错误：请查看错误说明并修改数据，若无误不用修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双击错误信息，出错单元格会显示为红色方便修改；修改完数据后点击“复审”按钮，直至无出错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949320" y="1484280"/>
            <a:ext cx="753120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中错误编号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6-06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错误，涉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两张报表需要注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等部分指标涉及与上年数据的比较，可能需要查询历史报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审核及改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1" descr=""/>
          <p:cNvPicPr/>
          <p:nvPr/>
        </p:nvPicPr>
        <p:blipFill>
          <a:blip r:embed="rId2"/>
          <a:stretch/>
        </p:blipFill>
        <p:spPr>
          <a:xfrm>
            <a:off x="1401840" y="3665520"/>
            <a:ext cx="4713120" cy="3192480"/>
          </a:xfrm>
          <a:prstGeom prst="rect">
            <a:avLst/>
          </a:prstGeom>
          <a:ln w="0">
            <a:noFill/>
          </a:ln>
        </p:spPr>
      </p:pic>
      <p:sp>
        <p:nvSpPr>
          <p:cNvPr id="568" name="椭圆 5"/>
          <p:cNvSpPr/>
          <p:nvPr/>
        </p:nvSpPr>
        <p:spPr>
          <a:xfrm>
            <a:off x="1373040" y="4349880"/>
            <a:ext cx="10400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928440" y="1344240"/>
            <a:ext cx="78930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报表无红色强制错误，且蓝色错误信息都核实无误后方可上报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有未通过的审核时先填写上报说明再进行上报，在报表处理页面下，点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更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按钮，选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上报说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在弹出的上报说明窗口中，针对核实性错误填写企业实际情况说明，方便统计机构复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图片 1" descr=""/>
          <p:cNvPicPr/>
          <p:nvPr/>
        </p:nvPicPr>
        <p:blipFill>
          <a:blip r:embed="rId2"/>
          <a:stretch/>
        </p:blipFill>
        <p:spPr>
          <a:xfrm>
            <a:off x="465120" y="4791240"/>
            <a:ext cx="3733920" cy="1552320"/>
          </a:xfrm>
          <a:prstGeom prst="rect">
            <a:avLst/>
          </a:prstGeom>
          <a:ln w="0">
            <a:noFill/>
          </a:ln>
        </p:spPr>
      </p:pic>
      <p:sp>
        <p:nvSpPr>
          <p:cNvPr id="573" name="矩形 2"/>
          <p:cNvSpPr/>
          <p:nvPr/>
        </p:nvSpPr>
        <p:spPr>
          <a:xfrm>
            <a:off x="2771640" y="5805360"/>
            <a:ext cx="144000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图片 6" descr=""/>
          <p:cNvPicPr/>
          <p:nvPr/>
        </p:nvPicPr>
        <p:blipFill>
          <a:blip r:embed="rId3"/>
          <a:stretch/>
        </p:blipFill>
        <p:spPr>
          <a:xfrm>
            <a:off x="4932360" y="4530600"/>
            <a:ext cx="37450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857160" y="1785960"/>
            <a:ext cx="75312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点击“报表处理”页面下“上报”按钮即可完成上报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上报为单次操作，每张报表都要执行上报操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1" descr=""/>
          <p:cNvPicPr/>
          <p:nvPr/>
        </p:nvPicPr>
        <p:blipFill>
          <a:blip r:embed="rId2"/>
          <a:stretch/>
        </p:blipFill>
        <p:spPr>
          <a:xfrm>
            <a:off x="1258920" y="4361040"/>
            <a:ext cx="6956280" cy="1546200"/>
          </a:xfrm>
          <a:prstGeom prst="rect">
            <a:avLst/>
          </a:prstGeom>
          <a:ln w="0">
            <a:noFill/>
          </a:ln>
        </p:spPr>
      </p:pic>
      <p:sp>
        <p:nvSpPr>
          <p:cNvPr id="579" name="椭圆 2"/>
          <p:cNvSpPr/>
          <p:nvPr/>
        </p:nvSpPr>
        <p:spPr>
          <a:xfrm>
            <a:off x="5580000" y="4510080"/>
            <a:ext cx="1225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平台“首页”可以看到本期报表的填报状态和上报状态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点击“状态查询”按钮查看各报表具体状态，包括最新修改时间，审核状态，上报状态，验收状态，上报说明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" descr=""/>
          <p:cNvPicPr/>
          <p:nvPr/>
        </p:nvPicPr>
        <p:blipFill>
          <a:blip r:embed="rId2"/>
          <a:stretch/>
        </p:blipFill>
        <p:spPr>
          <a:xfrm>
            <a:off x="868320" y="5008680"/>
            <a:ext cx="7346880" cy="647640"/>
          </a:xfrm>
          <a:prstGeom prst="rect">
            <a:avLst/>
          </a:prstGeom>
          <a:ln w="0">
            <a:noFill/>
          </a:ln>
        </p:spPr>
      </p:pic>
      <p:sp>
        <p:nvSpPr>
          <p:cNvPr id="584" name="椭圆 5"/>
          <p:cNvSpPr/>
          <p:nvPr/>
        </p:nvSpPr>
        <p:spPr>
          <a:xfrm>
            <a:off x="6419880" y="5027760"/>
            <a:ext cx="137016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统计机构验收完成后打印纸质报表并盖公章后寄至统计监测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“报表处理”页面下，点击“更多”按钮，选择“打印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图片 1" descr=""/>
          <p:cNvPicPr/>
          <p:nvPr/>
        </p:nvPicPr>
        <p:blipFill>
          <a:blip r:embed="rId2"/>
          <a:stretch/>
        </p:blipFill>
        <p:spPr>
          <a:xfrm>
            <a:off x="1211400" y="4152960"/>
            <a:ext cx="5878440" cy="2390760"/>
          </a:xfrm>
          <a:prstGeom prst="rect">
            <a:avLst/>
          </a:prstGeom>
          <a:ln w="0">
            <a:noFill/>
          </a:ln>
        </p:spPr>
      </p:pic>
      <p:sp>
        <p:nvSpPr>
          <p:cNvPr id="589" name="椭圆 5"/>
          <p:cNvSpPr/>
          <p:nvPr/>
        </p:nvSpPr>
        <p:spPr>
          <a:xfrm>
            <a:off x="5508720" y="4797360"/>
            <a:ext cx="576000" cy="47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培训内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直接连接符 4"/>
          <p:cNvSpPr/>
          <p:nvPr/>
        </p:nvSpPr>
        <p:spPr>
          <a:xfrm>
            <a:off x="1285920" y="2214720"/>
            <a:ext cx="6572160" cy="14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副标题 2"/>
          <p:cNvSpPr/>
          <p:nvPr/>
        </p:nvSpPr>
        <p:spPr>
          <a:xfrm>
            <a:off x="1285920" y="2852640"/>
            <a:ext cx="688824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spcBef>
                <a:spcPts val="8501"/>
              </a:spcBef>
              <a:spcAft>
                <a:spcPts val="22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培训内容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度年报制度内容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培训内容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网上直报程序操作培训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项调查问卷内容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弹出的打印预览窗口，可以拖动窗口下方的“拖动缩放”调整打印的报表大小，拖动到将报表宽度在一个页面中全部显示，然后点击“打印”按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弹出的打印设置对话框中勾选“打印链接的所有文档”（系统不同、打印机不同，设置方法可能稍有差异），然后打印即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图片 2" descr=""/>
          <p:cNvPicPr/>
          <p:nvPr/>
        </p:nvPicPr>
        <p:blipFill>
          <a:blip r:embed="rId2"/>
          <a:stretch/>
        </p:blipFill>
        <p:spPr>
          <a:xfrm>
            <a:off x="928800" y="88920"/>
            <a:ext cx="7851600" cy="6769080"/>
          </a:xfrm>
          <a:prstGeom prst="rect">
            <a:avLst/>
          </a:prstGeom>
          <a:ln w="0">
            <a:noFill/>
          </a:ln>
        </p:spPr>
      </p:pic>
      <p:sp>
        <p:nvSpPr>
          <p:cNvPr id="596" name="椭圆 6"/>
          <p:cNvSpPr/>
          <p:nvPr/>
        </p:nvSpPr>
        <p:spPr>
          <a:xfrm>
            <a:off x="2411280" y="6094440"/>
            <a:ext cx="576360" cy="477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1" descr=""/>
          <p:cNvPicPr/>
          <p:nvPr/>
        </p:nvPicPr>
        <p:blipFill>
          <a:blip r:embed="rId2"/>
          <a:stretch/>
        </p:blipFill>
        <p:spPr>
          <a:xfrm>
            <a:off x="1330200" y="258840"/>
            <a:ext cx="7532640" cy="6357960"/>
          </a:xfrm>
          <a:prstGeom prst="rect">
            <a:avLst/>
          </a:prstGeom>
          <a:ln w="0">
            <a:noFill/>
          </a:ln>
        </p:spPr>
      </p:pic>
      <p:sp>
        <p:nvSpPr>
          <p:cNvPr id="599" name="椭圆 6"/>
          <p:cNvSpPr/>
          <p:nvPr/>
        </p:nvSpPr>
        <p:spPr>
          <a:xfrm>
            <a:off x="2266920" y="692280"/>
            <a:ext cx="792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椭圆 7"/>
          <p:cNvSpPr/>
          <p:nvPr/>
        </p:nvSpPr>
        <p:spPr>
          <a:xfrm>
            <a:off x="1619280" y="2781360"/>
            <a:ext cx="5032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2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、注意事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"/>
          <p:cNvSpPr/>
          <p:nvPr/>
        </p:nvSpPr>
        <p:spPr>
          <a:xfrm>
            <a:off x="2466720" y="1484280"/>
            <a:ext cx="41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问卷填写的选项编号不应带有空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8" descr=""/>
          <p:cNvPicPr/>
          <p:nvPr/>
        </p:nvPicPr>
        <p:blipFill>
          <a:blip r:embed="rId2"/>
          <a:stretch/>
        </p:blipFill>
        <p:spPr>
          <a:xfrm>
            <a:off x="393840" y="2068560"/>
            <a:ext cx="8501040" cy="3521160"/>
          </a:xfrm>
          <a:prstGeom prst="rect">
            <a:avLst/>
          </a:prstGeom>
          <a:ln w="0">
            <a:noFill/>
          </a:ln>
        </p:spPr>
      </p:pic>
      <p:sp>
        <p:nvSpPr>
          <p:cNvPr id="605" name="矩形 2"/>
          <p:cNvSpPr/>
          <p:nvPr/>
        </p:nvSpPr>
        <p:spPr>
          <a:xfrm>
            <a:off x="249120" y="5608800"/>
            <a:ext cx="86457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修改方法为删除选项框中所有内容，并重新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推荐在填写时双击选项框，在弹出的选择对话框中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7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、注意事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"/>
          <p:cNvSpPr/>
          <p:nvPr/>
        </p:nvSpPr>
        <p:spPr>
          <a:xfrm>
            <a:off x="2001240" y="144468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审核出错信息后未在表内标红对应的出错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"/>
          <p:cNvSpPr/>
          <p:nvPr/>
        </p:nvSpPr>
        <p:spPr>
          <a:xfrm>
            <a:off x="249120" y="5608800"/>
            <a:ext cx="86457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T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表，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T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表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T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表的数据比对出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比对两表相关数据，并修改错误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图片 6" descr=""/>
          <p:cNvPicPr/>
          <p:nvPr/>
        </p:nvPicPr>
        <p:blipFill>
          <a:blip r:embed="rId2"/>
          <a:stretch/>
        </p:blipFill>
        <p:spPr>
          <a:xfrm>
            <a:off x="609480" y="1968480"/>
            <a:ext cx="79963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3"/>
          <p:cNvSpPr/>
          <p:nvPr/>
        </p:nvSpPr>
        <p:spPr>
          <a:xfrm>
            <a:off x="1341360" y="7700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标题 1"/>
          <p:cNvSpPr/>
          <p:nvPr/>
        </p:nvSpPr>
        <p:spPr>
          <a:xfrm>
            <a:off x="682560" y="1700280"/>
            <a:ext cx="77724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开网时间：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17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2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截止时间：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17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31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日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15" name="标题 1"/>
          <p:cNvSpPr/>
          <p:nvPr/>
        </p:nvSpPr>
        <p:spPr>
          <a:xfrm>
            <a:off x="971640" y="1159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联系方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内容占位符 2"/>
          <p:cNvSpPr/>
          <p:nvPr/>
        </p:nvSpPr>
        <p:spPr>
          <a:xfrm>
            <a:off x="755640" y="1987560"/>
            <a:ext cx="7923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办公地址：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上海市黄浦区威海路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48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号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1810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室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(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200003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传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真：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851570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邮        箱：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jjccbb@126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755640" y="1589040"/>
          <a:ext cx="7607160" cy="2833560"/>
        </p:xfrm>
        <a:graphic>
          <a:graphicData uri="http://schemas.openxmlformats.org/drawingml/2006/table">
            <a:tbl>
              <a:tblPr/>
              <a:tblGrid>
                <a:gridCol w="1951200"/>
                <a:gridCol w="2705040"/>
                <a:gridCol w="2950920"/>
              </a:tblGrid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  <a:ea typeface="华文新魏"/>
                        </a:rPr>
                        <a:t>联系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  <a:ea typeface="华文新魏"/>
                        </a:rPr>
                        <a:t>联系电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Q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傅鳌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7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978158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牛国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15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588407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王冠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19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71085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朱伽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7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62727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何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15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080837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19" name="TextBox 2"/>
          <p:cNvSpPr/>
          <p:nvPr/>
        </p:nvSpPr>
        <p:spPr>
          <a:xfrm>
            <a:off x="1714680" y="571680"/>
            <a:ext cx="5286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2916360" y="2565360"/>
            <a:ext cx="45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da1f28"/>
                </a:solidFill>
                <a:latin typeface="华文新魏"/>
                <a:ea typeface="华文新魏"/>
              </a:rPr>
              <a:t>谢 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用户登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审核及改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标题 1"/>
          <p:cNvSpPr/>
          <p:nvPr/>
        </p:nvSpPr>
        <p:spPr>
          <a:xfrm>
            <a:off x="642960" y="10717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网上直报程序培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4"/>
          <p:cNvSpPr/>
          <p:nvPr/>
        </p:nvSpPr>
        <p:spPr>
          <a:xfrm>
            <a:off x="1285920" y="2214720"/>
            <a:ext cx="6572160" cy="14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网上直报平台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http://wb3.stats-sh.gov.c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et Explorer1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及以下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内核的浏览器（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6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浏览器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Q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浏览器等）登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内核（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浏览器不能登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1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及以上版本浏览器不能完整显示报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用户登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28440" y="3573360"/>
            <a:ext cx="793908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初次登陆的帐号密码均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组织机构代码如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88888888x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母均为小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修改密码之后才可登陆平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密码与账号不可相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字母区分大小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用户登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4" descr=""/>
          <p:cNvPicPr/>
          <p:nvPr/>
        </p:nvPicPr>
        <p:blipFill>
          <a:blip r:embed="rId2"/>
          <a:stretch/>
        </p:blipFill>
        <p:spPr>
          <a:xfrm>
            <a:off x="393840" y="1411200"/>
            <a:ext cx="3817800" cy="188604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5" descr=""/>
          <p:cNvPicPr/>
          <p:nvPr/>
        </p:nvPicPr>
        <p:blipFill>
          <a:blip r:embed="rId3"/>
          <a:stretch/>
        </p:blipFill>
        <p:spPr>
          <a:xfrm>
            <a:off x="4541760" y="1411200"/>
            <a:ext cx="4135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2200" y="1522080"/>
            <a:ext cx="835524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果登陆页面出现如下情形无法输入验证码，需将网页改为“兼容性视图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用户登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图片 3" descr=""/>
          <p:cNvPicPr/>
          <p:nvPr/>
        </p:nvPicPr>
        <p:blipFill>
          <a:blip r:embed="rId2"/>
          <a:stretch/>
        </p:blipFill>
        <p:spPr>
          <a:xfrm>
            <a:off x="1136520" y="2685960"/>
            <a:ext cx="7156440" cy="3275280"/>
          </a:xfrm>
          <a:prstGeom prst="rect">
            <a:avLst/>
          </a:prstGeom>
          <a:ln w="0">
            <a:noFill/>
          </a:ln>
        </p:spPr>
      </p:pic>
      <p:sp>
        <p:nvSpPr>
          <p:cNvPr id="523" name="椭圆 1"/>
          <p:cNvSpPr/>
          <p:nvPr/>
        </p:nvSpPr>
        <p:spPr>
          <a:xfrm>
            <a:off x="6156360" y="4005360"/>
            <a:ext cx="2058840" cy="1008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66200" y="1555920"/>
            <a:ext cx="8194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平台首页可以看到当前需要录入的报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点击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报表处理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进入编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”进行录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图片 9" descr=""/>
          <p:cNvPicPr/>
          <p:nvPr/>
        </p:nvPicPr>
        <p:blipFill>
          <a:blip r:embed="rId2"/>
          <a:srcRect l="0" t="0" r="1226" b="54985"/>
          <a:stretch/>
        </p:blipFill>
        <p:spPr>
          <a:xfrm>
            <a:off x="-28440" y="3522600"/>
            <a:ext cx="5968800" cy="33354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11" descr=""/>
          <p:cNvPicPr/>
          <p:nvPr/>
        </p:nvPicPr>
        <p:blipFill>
          <a:blip r:embed="rId3"/>
          <a:stretch/>
        </p:blipFill>
        <p:spPr>
          <a:xfrm>
            <a:off x="0" y="2824200"/>
            <a:ext cx="6066000" cy="485640"/>
          </a:xfrm>
          <a:prstGeom prst="rect">
            <a:avLst/>
          </a:prstGeom>
          <a:ln w="0">
            <a:noFill/>
          </a:ln>
        </p:spPr>
      </p:pic>
      <p:sp>
        <p:nvSpPr>
          <p:cNvPr id="529" name="右箭头 1"/>
          <p:cNvSpPr/>
          <p:nvPr/>
        </p:nvSpPr>
        <p:spPr>
          <a:xfrm rot="16200000">
            <a:off x="2415240" y="3484800"/>
            <a:ext cx="646200" cy="295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12" descr=""/>
          <p:cNvPicPr/>
          <p:nvPr/>
        </p:nvPicPr>
        <p:blipFill>
          <a:blip r:embed="rId4"/>
          <a:srcRect l="0" t="0" r="72298" b="0"/>
          <a:stretch/>
        </p:blipFill>
        <p:spPr>
          <a:xfrm>
            <a:off x="6056280" y="3533760"/>
            <a:ext cx="3343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18600" y="5187600"/>
            <a:ext cx="80694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必须先录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T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并且保存后才可以录入其他报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页面左上角“编码”后面的框里为组织机构代码（请勿修改），点击编码框后面的箭头 ，将会自动填充表中组织机构代码字段，即可开始录入报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3"/>
          <p:cNvSpPr/>
          <p:nvPr/>
        </p:nvSpPr>
        <p:spPr>
          <a:xfrm>
            <a:off x="1193760" y="23508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6" descr=""/>
          <p:cNvPicPr/>
          <p:nvPr/>
        </p:nvPicPr>
        <p:blipFill>
          <a:blip r:embed="rId2"/>
          <a:srcRect l="0" t="0" r="23079" b="49088"/>
          <a:stretch/>
        </p:blipFill>
        <p:spPr>
          <a:xfrm>
            <a:off x="322200" y="1123920"/>
            <a:ext cx="8427960" cy="3386160"/>
          </a:xfrm>
          <a:prstGeom prst="rect">
            <a:avLst/>
          </a:prstGeom>
          <a:ln w="0">
            <a:noFill/>
          </a:ln>
        </p:spPr>
      </p:pic>
      <p:sp>
        <p:nvSpPr>
          <p:cNvPr id="535" name="椭圆 8"/>
          <p:cNvSpPr/>
          <p:nvPr/>
        </p:nvSpPr>
        <p:spPr>
          <a:xfrm>
            <a:off x="639720" y="1781280"/>
            <a:ext cx="1195560" cy="477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7" descr=""/>
          <p:cNvPicPr/>
          <p:nvPr/>
        </p:nvPicPr>
        <p:blipFill>
          <a:blip r:embed="rId3"/>
          <a:srcRect l="0" t="17104" r="0" b="21091"/>
          <a:stretch/>
        </p:blipFill>
        <p:spPr>
          <a:xfrm>
            <a:off x="318960" y="4673520"/>
            <a:ext cx="2738520" cy="493920"/>
          </a:xfrm>
          <a:prstGeom prst="rect">
            <a:avLst/>
          </a:prstGeom>
          <a:ln w="0">
            <a:noFill/>
          </a:ln>
        </p:spPr>
      </p:pic>
      <p:sp>
        <p:nvSpPr>
          <p:cNvPr id="537" name="椭圆 1"/>
          <p:cNvSpPr/>
          <p:nvPr/>
        </p:nvSpPr>
        <p:spPr>
          <a:xfrm>
            <a:off x="2624040" y="4673520"/>
            <a:ext cx="576360" cy="493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录入方式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选择题以及区划代码、行业类别等指标，在对应框中双击，弹出选择代码对话框，在其中单击指标即可自动填入。也可直接录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财务指标等直接录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录入完一个单元格后按“回车键”可以直接跳转到下一个单元格继续录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8:52:00Z</dcterms:created>
  <dc:creator>tjj</dc:creator>
  <dc:description/>
  <dc:language>en-US</dc:language>
  <cp:lastModifiedBy>Guansheng Wang</cp:lastModifiedBy>
  <dcterms:modified xsi:type="dcterms:W3CDTF">2017-04-12T04:57:20Z</dcterms:modified>
  <cp:revision>4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