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3EAC2-EB29-4271-B7DD-9101E9C9212E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备注占位符 4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二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三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四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五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46813-23A7-4D77-BFE5-6246F27D5408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上海市统计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90B13-9212-4607-9486-C57A573D8006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5239-A9C1-4FDD-9931-06744E322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B49A-D376-4177-A39D-D9C1D534A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F94868-ABE9-460F-BC19-DDCC18BEB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4CE7C7-1221-4286-8427-A3F357A95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E2CC23-6CCA-4BCF-AF0C-A31C853BC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11E91A-EBE6-4F8D-BE75-7806F396B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B74CAA-794A-42D6-A172-7705788C7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1DBDF4-40EF-413C-95DE-84FC96A74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14D4A4-96AB-4F39-8A1F-EB7F6819D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0047DC-A847-4FDC-BF3C-78676AED2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FA9FC2-B8B7-4848-A2BC-5C3AE0CDD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ACE306-961B-4FF0-9B3F-77F4C7AC8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7E39-122D-402B-A5D3-11D8DB25A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CB225F-AAFB-4AA6-8EA3-9B35B1ED0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421912-9D86-497E-B01E-273926A3F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E0CDC3-A526-4BEE-B6D3-C6ED340A0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351005-72E2-40DB-BF38-48A782575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1F0665-4FE1-407E-9F3F-34805B19B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99A77C-ECFE-47BF-AC60-91C0824B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E3E247-D5C9-4312-AEB0-30491885B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9704CB-5D3B-4FAD-98AE-449C223D9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D186B8-A090-4B39-A571-7F7672B37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151C9C-3B88-43B2-B5C9-66C511071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04C5-95B6-4CA2-BD07-A04D3FE7B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254DF5-7D18-4F96-9421-C92046381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CEDBDC-AE15-411C-8056-BF7ECFAF4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1FAD94-CCE0-4223-887B-2D12C7397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0841F1-FE14-4C78-994C-2148AF214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9DEE76-D453-4F30-8553-F2D3ADC93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D7FE4D-D488-40BA-8DE5-C2D889518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A86D24-D0B5-4E58-93BE-99B83832F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BF0180-42B8-4790-AA7E-261334BA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E366D7-C500-4DE3-9596-E0B5D670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59D8C9-ACE0-4788-9B27-F8AECD8B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A42F8-C45A-4296-A06F-AF4EE200C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38271E-6A5C-4CD2-9307-BA6D82C61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78F832-CA1A-45A8-BFF5-722B47EEC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20D8CA-3DC9-44D6-BD0C-AAE70A5BF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2577A6-F002-4A9D-9118-9E05A0B91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C5B292-4BB4-441A-9459-A710BCB65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F9464A-89A6-4ED4-BDA1-62C8DAFDB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AB80FA-62AA-4776-93D0-B102B9E6F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F82913-29D9-44FE-A2A1-BCDCB7F5E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056B33-4C25-43EE-B1C2-FAAA12006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D18DA8-8B7F-4449-A3D4-DE201C44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12A58-780F-48A4-BAD3-6B8F3FC47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79EAD0-2317-4EFA-832D-91B06067C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DC9CE0-FCA5-4E84-892C-CD08D8A07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3C77E2-551D-4DD2-880C-4C12C4D7C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7F70BF-A387-4879-AF0B-158BA1337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BF4006-F2DB-40CD-843D-A9CFA96AC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DD3D6A-37C1-4367-A7DF-37325107B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2D3F37-A66B-4363-A494-87210BEDA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A20917-3C9D-4D9F-8895-8B5169E42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3C1F3C-6DBF-4055-B48A-FA0752FE0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D09964-6A63-4D4E-A937-27C806CD7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18AD0-F49D-458A-BED2-453C248BE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ABA614-B599-4F5A-BEDF-2649F1C48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C33622-3026-4A80-B3E4-7A586AF05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41761E-024E-42C2-B739-2ECA5CA6F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4C7084-8ED5-4E29-9F4E-39C0096CD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81C98C-1B8D-46E8-BD19-8FB121964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979B67-BCFF-4D8A-845B-E48E6E1C7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A319C0-EAF3-4402-A6C7-19E9362BC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FE9EE-5FD3-4BB0-B0ED-554C2FC51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3065D-B758-4F5E-8B28-8AF9FC506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45F6F-C04F-48CA-B893-E3EDB914C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B5981-6AA1-4F48-A98D-47A79309B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5A11-0691-4F5C-B5CC-6C6FF4A93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11420-123E-44F7-9D23-68331241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AAC25-F1A3-4439-A3A3-1BA20D18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DE326-A6C2-4009-BBEC-D5ECD1D89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2B309-F4EC-42E1-9929-CC343B86C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23FB9-FDDA-4B85-8A93-7B5852EF8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63502-5154-49F9-BC7C-603C6E0ED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E982D-FFA9-4E80-B948-3D8EB486C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9CAA5-2EE9-43B8-AF9C-6496719F2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D7380-ED19-440B-9CAB-127D550F8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9FD01-1D02-4742-AFF5-011456F30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99CC-3EA6-4B07-A62A-CA9986F68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050C3-3795-409D-9791-4256C9DEF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678C0-5182-4D02-90BE-A20F9D77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3508D-4F8E-4E5D-ABA2-0BCEB599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21044-CAE8-4A32-96FE-FB808075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EEE0E-855F-4119-B05E-55A398BDE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34B8A-36F6-4F34-84D5-658E6F621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AB71F-12BA-4B1B-A055-1D2B8E71B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E122A-69BC-4359-8EFC-EC02B2AE3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D3D4B-DC97-4E25-ACF2-FEFC6ACDD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ED7A8-C418-446A-8C97-038939221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C226-4836-4FEA-87B1-ECB33BF94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A3CF2-B073-4557-B428-ACA40E350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9C195-D50F-43EE-855E-AA8345FE1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A78CA-3945-4B0B-84FA-072329E56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56FCC-E028-4C24-895B-F96A77AE7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CD285-FFBE-4A95-AC19-81A78623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93E92-C81A-4FFD-9525-39E50A900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C116F-4589-4907-85E9-C71188EE4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FE7D3-71F6-44E0-9721-71580543A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5E416-F1E5-420A-AA9B-66F02E0D8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DAC7F6-5A78-4970-AB71-0D254F2BB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F28E-5F99-46DB-9FFE-8E3CBD369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F389C-2685-4EA5-8F1A-419C23991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CF6913-8E5C-4F6E-98EF-A5D2D2598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A5AA28-3D88-4750-8AB9-06235983B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6432F-0C0A-4D75-B32C-9FCED93C9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E13639-6FB4-42C9-A8B2-692FBB3BF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16BC46-2A0D-46DB-9D2B-BB1CE902C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53063-99E3-4274-ADFB-C1E4793E3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017B1E-120B-4B10-8C71-BFA582CC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B428F2-8583-4527-88ED-9C1A160C2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714FB-7FAD-4903-BCEF-EA189C40A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E168-38FB-43C9-AA2B-6BC919F30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A20374-B3F7-408D-88AA-9817AA033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4C72A-0EAE-44EA-BB66-A31D9C4C5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9FBCCB-5FEE-482C-8A8A-0ED8B9C38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0CA708-7B7B-4DF6-99BE-66F7C8EBA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CC582A-45FE-433C-8B4D-012FE4A40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688660-AA07-416F-98C5-8A572F4BE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EFC227-FB7E-4782-82B9-AAFB2395E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8B2CD3-5541-4213-A384-1DB2B5ED7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8CEBC6-E7FF-4643-B4A9-3BDF7E2B4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58F981-49D5-4A1E-8198-EA7AC3889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D97A-FBEA-41AE-BD67-ADFAC7D10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E39AD8-CDC6-4099-8034-725DFC329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726D5D-F4EC-4D36-8F55-2D94DF8F7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031BF8-5BD8-488E-8D69-28126DE85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925EE8-E660-4C8D-8041-6888B5F87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6A04C3-B466-42F8-BF8C-57884D3CA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48D058-D791-44FF-A45C-A02F5C7D8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D42070-7484-4AAF-A242-FC8B42861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DBC043-FA8A-4F94-9B1E-BB52A1D41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89F644-4B71-4D65-858E-C70D3DEB4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FE9CE0-40A1-4312-8445-D77EE8D63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A848-7BAD-44F4-81E6-CCB4199E1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F10C8D-0FB5-4AA3-A5D3-9B0FCAC4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84F16F-58E7-4097-BAE3-6937F124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265A88-A3D3-4F71-9DAD-89DF88C2D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5A1759-DD24-4790-864E-82C6B9FEB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2F39D7-A64B-45BA-84A5-3D14ACDD6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1BF1C1-C0D5-4F18-8F2F-8E7DA2DE2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4C1319-9DB9-4A09-8E39-5407F70A3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85921F-444D-448B-AB38-94C2FA1CA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04D8B4-9F31-41FF-A8BB-D8F60D6C1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88EED7-32A3-4C24-8D76-6E22DA933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7177-8E73-492E-A236-6E78FC12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F10804-2918-481B-9AA1-FE4AFAB68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5B71EA-9E19-4257-8416-0EB7C37B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D9F98E-F6BF-46FF-8ACD-BAD01556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936E58-0D9F-4E7E-A99D-F52118AA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A49A19-9679-4F32-9814-1792928BF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51D145-55EC-4C99-BA38-07B17F3E1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4C37B2-D297-44ED-A566-DD40630CD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BDE9FF-9323-4C97-AEC8-C3A5E25FE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A95B64-DDE4-4DD4-BEF9-717087CFE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ABE873-B950-478D-95BD-C92483CA1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cfe8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CCA7F-F03F-498D-BAA6-EA27FEB8056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C1CA8-6B1C-463D-A85F-B44B18250E8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cfe8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ED35D-E66D-44C7-9E2E-E8CBE371B4E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132A5-D443-4F86-8D40-0C974F67F19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cfe8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7CA98-DDF6-4430-9E81-CFDBF2C5E1F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86626-9647-4F1C-B4EE-13736E8B2FA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cfe8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B48D1-F7FF-4F8F-80A1-C7EB8E5CA0D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BCD80-7633-4DF8-92A6-C8F34D2729A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cfe8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07C8E-F19C-4E6F-8A6E-23F137E8F34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844D5-C8EC-4E25-B4A0-C481167433F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cfe8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08DE1-6392-42A2-A441-530EE4D0FAA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C7E33-5382-450B-8590-06C36BB224B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cfe8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D1BCF-5298-4C55-9CD8-1B670E1F2C8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6C9D5-D962-42E0-A376-45D5839F32D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cfe8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C3BBA-A2F5-4B1A-B8A5-0DFE949128E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B4FC8-4156-4C5E-B59D-26908F2F23C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cfe8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45AB9-AD62-415B-A69D-88481FE4066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D9B8C-9262-4A91-ACCC-81324AEB59E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cfe8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C7EF2-6E0A-4AA3-BC10-95084500F81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07F71-F0D8-4A9E-BB4E-303874D4B92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cfe8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43EB9-910C-4E4A-B275-BA17D53C322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AD1A0-AA31-465F-A374-076BBDCC7F8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cfe8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81F6B-9C5E-48A4-9E75-27A43034555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DF6A7-B2C3-4CB4-9DEB-9BF3C6A4B29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cfe8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FC9C1-E75D-4CF3-BC84-23C18092BBA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2DCC1-1F64-4BDA-8E3C-54B94C9C1C7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9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9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9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9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9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9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9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28800" cy="955800"/>
          </a:xfrm>
          <a:prstGeom prst="rect">
            <a:avLst/>
          </a:prstGeom>
          <a:ln w="0">
            <a:noFill/>
          </a:ln>
        </p:spPr>
      </p:pic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754200" y="1195560"/>
            <a:ext cx="7772400" cy="22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600" spc="-1" strike="noStrike">
                <a:solidFill>
                  <a:srgbClr val="062329"/>
                </a:solidFill>
                <a:latin typeface="华文中宋"/>
                <a:ea typeface="华文中宋"/>
              </a:rPr>
              <a:t>上海市企业</a:t>
            </a:r>
            <a:r>
              <a:rPr b="1" lang="en-US" sz="5600" spc="-1" strike="noStrike">
                <a:solidFill>
                  <a:srgbClr val="062329"/>
                </a:solidFill>
                <a:latin typeface="华文中宋"/>
                <a:ea typeface="华文中宋"/>
              </a:rPr>
              <a:t>(</a:t>
            </a:r>
            <a:r>
              <a:rPr b="1" lang="zh-CN" sz="5600" spc="-1" strike="noStrike">
                <a:solidFill>
                  <a:srgbClr val="062329"/>
                </a:solidFill>
                <a:latin typeface="华文中宋"/>
                <a:ea typeface="华文中宋"/>
              </a:rPr>
              <a:t>集团</a:t>
            </a:r>
            <a:r>
              <a:rPr b="1" lang="en-US" sz="5600" spc="-1" strike="noStrike">
                <a:solidFill>
                  <a:srgbClr val="062329"/>
                </a:solidFill>
                <a:latin typeface="华文中宋"/>
                <a:ea typeface="华文中宋"/>
              </a:rPr>
              <a:t>)</a:t>
            </a:r>
            <a:br>
              <a:rPr sz="5600"/>
            </a:br>
            <a:r>
              <a:rPr b="1" lang="zh-CN" sz="5600" spc="-1" strike="noStrike">
                <a:solidFill>
                  <a:srgbClr val="062329"/>
                </a:solidFill>
                <a:latin typeface="华文中宋"/>
                <a:ea typeface="华文中宋"/>
              </a:rPr>
              <a:t>统计调查年报布置会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1330200" y="4726080"/>
            <a:ext cx="6400800" cy="120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2329"/>
                </a:solidFill>
                <a:latin typeface="华文新魏"/>
                <a:ea typeface="华文新魏"/>
              </a:rPr>
              <a:t>国家统计局上海调查总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2329"/>
                </a:solidFill>
                <a:latin typeface="华文新魏"/>
                <a:ea typeface="华文新魏"/>
              </a:rPr>
              <a:t>统计监测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2329"/>
                </a:solidFill>
                <a:latin typeface="华文新魏"/>
                <a:ea typeface="华文新魏"/>
              </a:rPr>
              <a:t>2017</a:t>
            </a:r>
            <a:r>
              <a:rPr b="1" lang="zh-CN" sz="2400" spc="-1" strike="noStrike">
                <a:solidFill>
                  <a:srgbClr val="062329"/>
                </a:solidFill>
                <a:latin typeface="华文新魏"/>
                <a:ea typeface="华文新魏"/>
              </a:rPr>
              <a:t>年</a:t>
            </a:r>
            <a:r>
              <a:rPr b="1" lang="en-US" sz="2400" spc="-1" strike="noStrike">
                <a:solidFill>
                  <a:srgbClr val="062329"/>
                </a:solidFill>
                <a:latin typeface="华文新魏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062329"/>
                </a:solidFill>
                <a:latin typeface="华文新魏"/>
                <a:ea typeface="华文新魏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28800" cy="955800"/>
          </a:xfrm>
          <a:prstGeom prst="rect">
            <a:avLst/>
          </a:prstGeom>
          <a:ln w="0">
            <a:noFill/>
          </a:ln>
        </p:spPr>
      </p:pic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857160" y="571320"/>
            <a:ext cx="7715520" cy="58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09.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主营行业类别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指按企业主要从事的生产经营活动进行的分类。按照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国民经济行业分类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》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[GB/T4754-2011]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中的行业小类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四位码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填列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主要业务活动</a:t>
            </a:r>
            <a:r>
              <a:rPr b="1" lang="en-US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或主要产品</a:t>
            </a:r>
            <a:r>
              <a:rPr b="1" lang="en-US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指企业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集团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主营业务收入最高的三项业务活动或产品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10.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成立时间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指企业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集团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在工商管理部门登记注册的日期。凡未登记注册的企业集团，可以用有关部门批准成立的日期为准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11.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企业</a:t>
            </a:r>
            <a:r>
              <a:rPr b="1" lang="en-US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集团</a:t>
            </a:r>
            <a:r>
              <a:rPr b="1" lang="en-US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)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下属控股上市公司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指企业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集团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下属绝对或相对控股的上市公司。含境内或境外各上市公司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28800" cy="955800"/>
          </a:xfrm>
          <a:prstGeom prst="rect">
            <a:avLst/>
          </a:prstGeom>
          <a:ln w="0">
            <a:noFill/>
          </a:ln>
        </p:spPr>
      </p:pic>
      <p:sp>
        <p:nvSpPr>
          <p:cNvPr id="571" name="PlaceHolder 1"/>
          <p:cNvSpPr>
            <a:spLocks noGrp="1"/>
          </p:cNvSpPr>
          <p:nvPr>
            <p:ph type="subTitle"/>
          </p:nvPr>
        </p:nvSpPr>
        <p:spPr>
          <a:xfrm>
            <a:off x="857160" y="765000"/>
            <a:ext cx="7715520" cy="56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12.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企业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集团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)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是否执行合并会计报表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此为本市企业集团排名的主要依据，未执行合并会计报表的企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集团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不参与排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13.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控股情况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国有控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集体控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私人控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港澳台商控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外商控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xtBox 5"/>
          <p:cNvSpPr/>
          <p:nvPr/>
        </p:nvSpPr>
        <p:spPr>
          <a:xfrm>
            <a:off x="1785960" y="357120"/>
            <a:ext cx="535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是否执行合并会计报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图示 15" descr=""/>
          <p:cNvPicPr/>
          <p:nvPr/>
        </p:nvPicPr>
        <p:blipFill>
          <a:blip r:embed="rId1"/>
          <a:stretch/>
        </p:blipFill>
        <p:spPr>
          <a:xfrm>
            <a:off x="139680" y="1182600"/>
            <a:ext cx="3719520" cy="5529240"/>
          </a:xfrm>
          <a:prstGeom prst="rect">
            <a:avLst/>
          </a:prstGeom>
          <a:ln w="0">
            <a:noFill/>
          </a:ln>
        </p:spPr>
      </p:pic>
      <p:pic>
        <p:nvPicPr>
          <p:cNvPr id="574" name="图示 16" descr=""/>
          <p:cNvPicPr/>
          <p:nvPr/>
        </p:nvPicPr>
        <p:blipFill>
          <a:blip r:embed="rId2"/>
          <a:stretch/>
        </p:blipFill>
        <p:spPr>
          <a:xfrm>
            <a:off x="2736720" y="1573200"/>
            <a:ext cx="6169320" cy="1998720"/>
          </a:xfrm>
          <a:prstGeom prst="rect">
            <a:avLst/>
          </a:prstGeom>
          <a:ln w="0">
            <a:noFill/>
          </a:ln>
        </p:spPr>
      </p:pic>
      <p:pic>
        <p:nvPicPr>
          <p:cNvPr id="575" name="图示 6" descr=""/>
          <p:cNvPicPr/>
          <p:nvPr/>
        </p:nvPicPr>
        <p:blipFill>
          <a:blip r:embed="rId3"/>
          <a:stretch/>
        </p:blipFill>
        <p:spPr>
          <a:xfrm>
            <a:off x="2590920" y="4359240"/>
            <a:ext cx="6248160" cy="1998720"/>
          </a:xfrm>
          <a:prstGeom prst="rect">
            <a:avLst/>
          </a:prstGeom>
          <a:ln w="0">
            <a:noFill/>
          </a:ln>
        </p:spPr>
      </p:pic>
      <p:sp>
        <p:nvSpPr>
          <p:cNvPr id="576" name="不等于号 7"/>
          <p:cNvSpPr/>
          <p:nvPr/>
        </p:nvSpPr>
        <p:spPr>
          <a:xfrm rot="5400000">
            <a:off x="7536600" y="3750480"/>
            <a:ext cx="1285920" cy="642960"/>
          </a:xfrm>
          <a:custGeom>
            <a:avLst/>
            <a:gdLst/>
            <a:ahLst/>
            <a:rect l="l" t="t" r="r" b="b"/>
            <a:pathLst>
              <a:path w="1285875" h="642938">
                <a:moveTo>
                  <a:pt x="170443" y="132445"/>
                </a:moveTo>
                <a:lnTo>
                  <a:pt x="631275" y="132445"/>
                </a:lnTo>
                <a:lnTo>
                  <a:pt x="679481" y="0"/>
                </a:lnTo>
                <a:lnTo>
                  <a:pt x="821580" y="51720"/>
                </a:lnTo>
                <a:lnTo>
                  <a:pt x="792198" y="132445"/>
                </a:lnTo>
                <a:lnTo>
                  <a:pt x="1115432" y="132445"/>
                </a:lnTo>
                <a:lnTo>
                  <a:pt x="1115432" y="283664"/>
                </a:lnTo>
                <a:lnTo>
                  <a:pt x="737159" y="283664"/>
                </a:lnTo>
                <a:lnTo>
                  <a:pt x="709640" y="359274"/>
                </a:lnTo>
                <a:lnTo>
                  <a:pt x="1115432" y="359274"/>
                </a:lnTo>
                <a:lnTo>
                  <a:pt x="1115432" y="510493"/>
                </a:lnTo>
                <a:lnTo>
                  <a:pt x="654600" y="510493"/>
                </a:lnTo>
                <a:lnTo>
                  <a:pt x="606394" y="642938"/>
                </a:lnTo>
                <a:lnTo>
                  <a:pt x="464295" y="591218"/>
                </a:lnTo>
                <a:lnTo>
                  <a:pt x="493677" y="510493"/>
                </a:lnTo>
                <a:lnTo>
                  <a:pt x="170443" y="510493"/>
                </a:lnTo>
                <a:lnTo>
                  <a:pt x="170443" y="359274"/>
                </a:lnTo>
                <a:lnTo>
                  <a:pt x="548716" y="359274"/>
                </a:lnTo>
                <a:lnTo>
                  <a:pt x="576235" y="283664"/>
                </a:lnTo>
                <a:lnTo>
                  <a:pt x="170443" y="283664"/>
                </a:lnTo>
                <a:lnTo>
                  <a:pt x="170443" y="132445"/>
                </a:lnTo>
                <a:close/>
              </a:path>
            </a:pathLst>
          </a:custGeom>
          <a:solidFill>
            <a:srgbClr val="2da2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28800" cy="955800"/>
          </a:xfrm>
          <a:prstGeom prst="rect">
            <a:avLst/>
          </a:prstGeom>
          <a:ln w="0">
            <a:noFill/>
          </a:ln>
        </p:spPr>
      </p:pic>
      <p:sp>
        <p:nvSpPr>
          <p:cNvPr id="578" name="Rectangle 3"/>
          <p:cNvSpPr/>
          <p:nvPr/>
        </p:nvSpPr>
        <p:spPr>
          <a:xfrm>
            <a:off x="1066680" y="1285920"/>
            <a:ext cx="772020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>
              <a:spcBef>
                <a:spcPts val="700"/>
              </a:spcBef>
              <a:buClr>
                <a:srgbClr val="66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判断控股的主要方法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绝对控股：某一经济成分的出资人拥有的实收资本（股本）占比大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相对控股：某一经济成分的出资人拥有的实收资本（股本）占比虽未大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但相对大于其他任何一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协议控股：实收资本（股本）占比虽未大于其他经济成分出资人，但根据协议规定拥有企业实际控制权的一方出资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28800" cy="955800"/>
          </a:xfrm>
          <a:prstGeom prst="rect">
            <a:avLst/>
          </a:prstGeom>
          <a:ln w="0">
            <a:noFill/>
          </a:ln>
        </p:spPr>
      </p:pic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857160" y="999720"/>
            <a:ext cx="357192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14.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登记注册类型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指在工商行政管理机关登记注册的具有法人资格的各类企业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15 .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本企业是否为某个法人企业的子公司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指母公司是否为某一法人企业控股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包括绝对控股和相对控股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子公司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4643280" y="115920"/>
          <a:ext cx="3714840" cy="6554880"/>
        </p:xfrm>
        <a:graphic>
          <a:graphicData uri="http://schemas.openxmlformats.org/drawingml/2006/table">
            <a:tbl>
              <a:tblPr/>
              <a:tblGrid>
                <a:gridCol w="3714840"/>
              </a:tblGrid>
              <a:tr h="2620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110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国有企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120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集体企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130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股份合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141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国有联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142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集体联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143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国有与集体联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149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其他联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151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国有独资公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159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其他有限责任公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160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股份有限公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171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私营独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172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私营合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173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私营有限责任公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174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私营股份有限公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190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其他内资企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210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与港澳台商合资经营企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220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与港澳台商合作经营企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230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港澳台商独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240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港澳台商投资股份有限公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290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其他港澳台商投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310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中外合资经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320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中外合作经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330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外资企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340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外商投资股份有限公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390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其他外商投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28800" cy="955800"/>
          </a:xfrm>
          <a:prstGeom prst="rect">
            <a:avLst/>
          </a:prstGeom>
          <a:ln w="0">
            <a:noFill/>
          </a:ln>
        </p:spPr>
      </p:pic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500040" y="1000080"/>
            <a:ext cx="807264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企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集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财务与劳动工资相关指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副标题 2"/>
          <p:cNvSpPr/>
          <p:nvPr/>
        </p:nvSpPr>
        <p:spPr>
          <a:xfrm>
            <a:off x="785880" y="1928880"/>
            <a:ext cx="764388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执行合并会计报表制度的集团，财务指标应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按合并会计报表数据填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未设立合并会计报表的集团，财务指标按母公司与各成员企业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相加汇总数据填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无论是否执行合并会计报表制度，劳动工资指标均应按母公司与各成员企业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相加汇总数据填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28800" cy="955800"/>
          </a:xfrm>
          <a:prstGeom prst="rect">
            <a:avLst/>
          </a:prstGeom>
          <a:ln w="0">
            <a:noFill/>
          </a:ln>
        </p:spPr>
      </p:pic>
      <p:sp>
        <p:nvSpPr>
          <p:cNvPr id="586" name="副标题 2"/>
          <p:cNvSpPr/>
          <p:nvPr/>
        </p:nvSpPr>
        <p:spPr>
          <a:xfrm>
            <a:off x="857160" y="428760"/>
            <a:ext cx="7715520" cy="60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从业人员年末人数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指年末最后一日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4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时在本单位中工作，并取得工资或其他形式劳动报酬的人员数。摘录“上海市从业人员和工资总额表”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(102-1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或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I 102-2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表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进行填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该指标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是在岗职工、劳务派遣人员及其他从业人员之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该指标为时点指标，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不包括最后一日当天及以前已与单位解除劳动合同关系的人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28800" cy="955800"/>
          </a:xfrm>
          <a:prstGeom prst="rect">
            <a:avLst/>
          </a:prstGeom>
          <a:ln w="0">
            <a:noFill/>
          </a:ln>
        </p:spPr>
      </p:pic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857160" y="765000"/>
            <a:ext cx="7500960" cy="56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华文楷体"/>
                <a:ea typeface="华文楷体"/>
              </a:rPr>
              <a:t>A</a:t>
            </a:r>
            <a:r>
              <a:rPr b="1" lang="zh-CN" sz="35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劳务派遣人员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无论用工单位是否直接支付劳动报酬，劳务派遣人员均由实际用工单位填报，而劳务派遣单位</a:t>
            </a:r>
            <a:r>
              <a:rPr b="1" lang="zh-CN" sz="35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zh-CN" sz="3500" spc="-1" strike="noStrike">
                <a:solidFill>
                  <a:srgbClr val="000000"/>
                </a:solidFill>
                <a:latin typeface="华文楷体"/>
                <a:ea typeface="华文楷体"/>
              </a:rPr>
              <a:t>派出单位</a:t>
            </a:r>
            <a:r>
              <a:rPr b="1" lang="zh-CN" sz="35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r>
              <a:rPr b="1" lang="zh-CN" sz="35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不填报这些人员。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统计原则：</a:t>
            </a:r>
            <a:r>
              <a:rPr b="1" lang="zh-CN" sz="3500" spc="-1" strike="noStrike">
                <a:solidFill>
                  <a:srgbClr val="ff0000"/>
                </a:solidFill>
                <a:latin typeface="华文楷体"/>
                <a:ea typeface="华文楷体"/>
              </a:rPr>
              <a:t>谁用工谁统计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28800" cy="955800"/>
          </a:xfrm>
          <a:prstGeom prst="rect">
            <a:avLst/>
          </a:prstGeom>
          <a:ln w="0">
            <a:noFill/>
          </a:ln>
        </p:spPr>
      </p:pic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857160" y="714240"/>
            <a:ext cx="7429680" cy="56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华文楷体"/>
                <a:ea typeface="华文楷体"/>
              </a:rPr>
              <a:t>B</a:t>
            </a:r>
            <a:r>
              <a:rPr b="1" lang="zh-CN" sz="35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其他从业人员：指实际参加本单位生产或工作并从本单位取得劳动报酬的其他人员。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非全日制人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再就业的离退休人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兼职人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借用的外单位人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第二职业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在各单位中工作的外籍人员和港澳台方人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28800" cy="955800"/>
          </a:xfrm>
          <a:prstGeom prst="rect">
            <a:avLst/>
          </a:prstGeom>
          <a:ln w="0">
            <a:noFill/>
          </a:ln>
        </p:spPr>
      </p:pic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857160" y="765000"/>
            <a:ext cx="7715520" cy="56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华文楷体"/>
                <a:ea typeface="华文楷体"/>
              </a:rPr>
              <a:t>C</a:t>
            </a:r>
            <a:r>
              <a:rPr b="1" lang="zh-CN" sz="35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从业人员</a:t>
            </a:r>
            <a:r>
              <a:rPr b="1" lang="zh-CN" sz="3500" spc="-1" strike="noStrike">
                <a:solidFill>
                  <a:srgbClr val="ff0000"/>
                </a:solidFill>
                <a:latin typeface="华文楷体"/>
                <a:ea typeface="华文楷体"/>
              </a:rPr>
              <a:t>不包括</a:t>
            </a:r>
            <a:r>
              <a:rPr b="1" lang="zh-CN" sz="35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35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35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离开本单位仍保留劳动关系，并定期领取生活费的职工。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35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35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利用课余时间打工的学生及在本单位实习的各类在校学生；</a:t>
            </a:r>
            <a:r>
              <a:rPr b="1" lang="en-US" sz="35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35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1" lang="zh-CN" sz="35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本单位的参军人员。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35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r>
              <a:rPr b="1" lang="zh-CN" sz="35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本单位因劳务外包而使用的人员。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28800" cy="955800"/>
          </a:xfrm>
          <a:prstGeom prst="rect">
            <a:avLst/>
          </a:prstGeom>
          <a:ln w="0">
            <a:noFill/>
          </a:ln>
        </p:spPr>
      </p:pic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1914480" y="2347560"/>
            <a:ext cx="5905440" cy="35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ts val="4799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统计调查制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799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填报手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799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宣传小手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799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专项调查问卷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&amp;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调查礼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799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协助调查通知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799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记录本和笔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标题 1"/>
          <p:cNvSpPr/>
          <p:nvPr/>
        </p:nvSpPr>
        <p:spPr>
          <a:xfrm>
            <a:off x="685800" y="8967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会议材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直接连接符 4"/>
          <p:cNvSpPr/>
          <p:nvPr/>
        </p:nvSpPr>
        <p:spPr>
          <a:xfrm>
            <a:off x="1254240" y="1916280"/>
            <a:ext cx="6572160" cy="1440"/>
          </a:xfrm>
          <a:prstGeom prst="line">
            <a:avLst/>
          </a:prstGeom>
          <a:ln w="381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28800" cy="955800"/>
          </a:xfrm>
          <a:prstGeom prst="rect">
            <a:avLst/>
          </a:prstGeom>
          <a:ln w="0">
            <a:noFill/>
          </a:ln>
        </p:spPr>
      </p:pic>
      <p:sp>
        <p:nvSpPr>
          <p:cNvPr id="594" name="PlaceHolder 1"/>
          <p:cNvSpPr>
            <a:spLocks noGrp="1"/>
          </p:cNvSpPr>
          <p:nvPr>
            <p:ph type="subTitle"/>
          </p:nvPr>
        </p:nvSpPr>
        <p:spPr>
          <a:xfrm>
            <a:off x="857160" y="1053720"/>
            <a:ext cx="77155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从业人员劳动报酬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指企业直接支付给本企业全部从业人员的劳动报酬总额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包括基础工资、职务工资、级别工资、工龄工资、计件工资、奖金、各种津贴和补贴、过节费、交通费、洗理费、书报费、伙食补助等以及由单位为职工代扣代缴的个人所得税、住房公积金、失业保险基金、养老保险基金、大病统筹基金、房租水电费等。不论是以货币形式支付的还是以实物形式支付的，均应列入劳动报酬 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28800" cy="955800"/>
          </a:xfrm>
          <a:prstGeom prst="rect">
            <a:avLst/>
          </a:prstGeom>
          <a:ln w="0">
            <a:noFill/>
          </a:ln>
        </p:spPr>
      </p:pic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571680" y="107172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9933"/>
                </a:solidFill>
                <a:latin typeface="Calibri"/>
              </a:rPr>
              <a:t>企业</a:t>
            </a: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(</a:t>
            </a:r>
            <a:r>
              <a:rPr b="1" lang="zh-CN" sz="3600" spc="-1" strike="noStrike">
                <a:solidFill>
                  <a:srgbClr val="339933"/>
                </a:solidFill>
                <a:latin typeface="Calibri"/>
              </a:rPr>
              <a:t>集团</a:t>
            </a: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)</a:t>
            </a:r>
            <a:r>
              <a:rPr b="1" lang="zh-CN" sz="3600" spc="-1" strike="noStrike">
                <a:solidFill>
                  <a:srgbClr val="339933"/>
                </a:solidFill>
                <a:latin typeface="Calibri"/>
              </a:rPr>
              <a:t>成员企业</a:t>
            </a: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(</a:t>
            </a:r>
            <a:r>
              <a:rPr b="1" lang="zh-CN" sz="3600" spc="-1" strike="noStrike">
                <a:solidFill>
                  <a:srgbClr val="339933"/>
                </a:solidFill>
                <a:latin typeface="Calibri"/>
              </a:rPr>
              <a:t>单位</a:t>
            </a: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)</a:t>
            </a:r>
            <a:r>
              <a:rPr b="1" lang="zh-CN" sz="3600" spc="-1" strike="noStrike">
                <a:solidFill>
                  <a:srgbClr val="339933"/>
                </a:solidFill>
                <a:latin typeface="Calibri"/>
              </a:rPr>
              <a:t>一览表</a:t>
            </a: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(JT2</a:t>
            </a:r>
            <a:r>
              <a:rPr b="1" lang="zh-CN" sz="3600" spc="-1" strike="noStrike">
                <a:solidFill>
                  <a:srgbClr val="339933"/>
                </a:solidFill>
                <a:latin typeface="Calibri"/>
              </a:rPr>
              <a:t>表</a:t>
            </a: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副标题 2"/>
          <p:cNvSpPr/>
          <p:nvPr/>
        </p:nvSpPr>
        <p:spPr>
          <a:xfrm>
            <a:off x="746280" y="1665360"/>
            <a:ext cx="771516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华文楷体"/>
                <a:ea typeface="华文楷体"/>
              </a:rPr>
              <a:t>填报范围</a:t>
            </a:r>
            <a:r>
              <a:rPr b="1" lang="zh-CN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企业</a:t>
            </a:r>
            <a:r>
              <a:rPr b="1" lang="en-US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zh-CN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集团</a:t>
            </a:r>
            <a:r>
              <a:rPr b="1" lang="en-US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r>
              <a:rPr b="1" lang="zh-CN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级成员企业（即集团合并成员企业范围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包括企业</a:t>
            </a:r>
            <a:r>
              <a:rPr b="1" lang="en-US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zh-CN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集团</a:t>
            </a:r>
            <a:r>
              <a:rPr b="1" lang="en-US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r>
              <a:rPr b="1" lang="zh-CN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母公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华文楷体"/>
                <a:ea typeface="华文楷体"/>
              </a:rPr>
              <a:t>第一家填写母公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后填其他一级成员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企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5" descr="C:\Users\caihanyun\Documents\1.png"/>
          <p:cNvPicPr/>
          <p:nvPr/>
        </p:nvPicPr>
        <p:blipFill>
          <a:blip r:embed="rId2"/>
          <a:stretch/>
        </p:blipFill>
        <p:spPr>
          <a:xfrm>
            <a:off x="4402080" y="3600360"/>
            <a:ext cx="463572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28800" cy="955800"/>
          </a:xfrm>
          <a:prstGeom prst="rect">
            <a:avLst/>
          </a:prstGeom>
          <a:ln w="0">
            <a:noFill/>
          </a:ln>
        </p:spPr>
      </p:pic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857160" y="1071720"/>
            <a:ext cx="7715520" cy="53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请注意区分母公司和企业</a:t>
            </a:r>
            <a:r>
              <a:rPr b="1" lang="en-US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集团</a:t>
            </a:r>
            <a:r>
              <a:rPr b="1" lang="en-US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)</a:t>
            </a: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的差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企业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集团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统计年报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(JT1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表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企业</a:t>
            </a: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集团</a:t>
            </a: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填报的是合并会计报表的数据，包括所有成员企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企业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集团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成员企业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位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览表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(JT2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表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母公司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填报的是集团本部的单体报表数据，不包括其他成员企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28800" cy="955800"/>
          </a:xfrm>
          <a:prstGeom prst="rect">
            <a:avLst/>
          </a:prstGeom>
          <a:ln w="0">
            <a:noFill/>
          </a:ln>
        </p:spPr>
      </p:pic>
      <p:sp>
        <p:nvSpPr>
          <p:cNvPr id="602" name="PlaceHolder 1"/>
          <p:cNvSpPr>
            <a:spLocks noGrp="1"/>
          </p:cNvSpPr>
          <p:nvPr>
            <p:ph type="subTitle"/>
          </p:nvPr>
        </p:nvSpPr>
        <p:spPr>
          <a:xfrm>
            <a:off x="857160" y="1071720"/>
            <a:ext cx="7715520" cy="53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企业规模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指根据国家统计局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统计上大中小微型企业划分办法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》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国统字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〔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011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〕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75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号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规定，依据从业人员、营业收入、资产总额等指标或替代指标将单位划分为大型、中型、小型和微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单位所在地行政区划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单位所在地填写区（县）级区划代码，为六位阿拉伯数字。如：黄浦区“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310101”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外省市填写至省级区划，如浙江省“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330000”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境外填写“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999999”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28800" cy="955800"/>
          </a:xfrm>
          <a:prstGeom prst="rect">
            <a:avLst/>
          </a:prstGeom>
          <a:ln w="0">
            <a:noFill/>
          </a:ln>
        </p:spPr>
      </p:pic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714240" y="54756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9933"/>
                </a:solidFill>
                <a:latin typeface="华文中宋"/>
                <a:ea typeface="华文中宋"/>
              </a:rPr>
              <a:t>需注意的几个表间审核关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Text Box 4"/>
          <p:cNvSpPr/>
          <p:nvPr/>
        </p:nvSpPr>
        <p:spPr>
          <a:xfrm>
            <a:off x="609480" y="1319040"/>
            <a:ext cx="7923240" cy="50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企业</a:t>
            </a:r>
            <a:r>
              <a:rPr b="1" lang="en-US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集团</a:t>
            </a:r>
            <a:r>
              <a:rPr b="1" lang="en-US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统计年报</a:t>
            </a:r>
            <a:r>
              <a:rPr b="1" lang="en-US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(JT1</a:t>
            </a: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表</a:t>
            </a:r>
            <a:r>
              <a:rPr b="1" lang="en-US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企业</a:t>
            </a:r>
            <a:r>
              <a:rPr b="1" lang="en-US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集团</a:t>
            </a:r>
            <a:r>
              <a:rPr b="1" lang="en-US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成员企业</a:t>
            </a:r>
            <a:r>
              <a:rPr b="1" lang="en-US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位</a:t>
            </a:r>
            <a:r>
              <a:rPr b="1" lang="en-US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览表</a:t>
            </a:r>
            <a:r>
              <a:rPr b="1" lang="en-US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(JT2</a:t>
            </a: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表</a:t>
            </a:r>
            <a:r>
              <a:rPr b="1" lang="en-US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华文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财务指标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7030a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华文楷体"/>
                <a:ea typeface="华文楷体"/>
              </a:rPr>
              <a:t>如果集团不执行合并会计报表制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6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集团资产总计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(JT1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表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)=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成员企业资产总计之和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(JT2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表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6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集团营业收入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(JT1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表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)=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成员企业营业收入之和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(JT2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表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6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集团利润总额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(JT1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表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)=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成员企业利润总额之和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(JT2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表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Text Box 4"/>
          <p:cNvSpPr/>
          <p:nvPr/>
        </p:nvSpPr>
        <p:spPr>
          <a:xfrm>
            <a:off x="538200" y="1319040"/>
            <a:ext cx="8067600" cy="25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7030a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华文楷体"/>
                <a:ea typeface="华文楷体"/>
              </a:rPr>
              <a:t>如果集团执行合并会计报表制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6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集团资产总计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(JT1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表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) &lt;=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成员企业资产总计之和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(JT2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表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6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集团营业收入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(JT1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表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) &lt;=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成员企业营业收入之和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(JT2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表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6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集团利润总额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(JT1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表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) &lt;=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成员企业利润总额之和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(JT2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表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Text Box 4"/>
          <p:cNvSpPr/>
          <p:nvPr/>
        </p:nvSpPr>
        <p:spPr>
          <a:xfrm>
            <a:off x="609480" y="1319040"/>
            <a:ext cx="7923240" cy="32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劳动工资指标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7030a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华文楷体"/>
                <a:ea typeface="华文楷体"/>
              </a:rPr>
              <a:t>无论集团是否执行合并会计报表制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6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集团从业人员年末人数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(JT1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表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)=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成员企业从业人员人数之和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(JT2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表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6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集团从业人员年末劳动报酬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(JT1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表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)=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成员企业从业人员劳动报酬之和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(JT2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表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28800" cy="955800"/>
          </a:xfrm>
          <a:prstGeom prst="rect">
            <a:avLst/>
          </a:prstGeom>
          <a:ln w="0">
            <a:noFill/>
          </a:ln>
        </p:spPr>
      </p:pic>
      <p:sp>
        <p:nvSpPr>
          <p:cNvPr id="609" name="副标题 5"/>
          <p:cNvSpPr/>
          <p:nvPr/>
        </p:nvSpPr>
        <p:spPr>
          <a:xfrm>
            <a:off x="571680" y="785880"/>
            <a:ext cx="821520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9933"/>
                </a:solidFill>
                <a:latin typeface="Calibri"/>
              </a:rPr>
              <a:t>企业</a:t>
            </a: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(</a:t>
            </a:r>
            <a:r>
              <a:rPr b="1" lang="zh-CN" sz="3600" spc="-1" strike="noStrike">
                <a:solidFill>
                  <a:srgbClr val="339933"/>
                </a:solidFill>
                <a:latin typeface="Calibri"/>
              </a:rPr>
              <a:t>集团</a:t>
            </a: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)</a:t>
            </a:r>
            <a:r>
              <a:rPr b="1" lang="zh-CN" sz="3600" spc="-1" strike="noStrike">
                <a:solidFill>
                  <a:srgbClr val="339933"/>
                </a:solidFill>
                <a:latin typeface="Calibri"/>
              </a:rPr>
              <a:t>境外投资情况</a:t>
            </a: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(JT3</a:t>
            </a:r>
            <a:r>
              <a:rPr b="1" lang="zh-CN" sz="3600" spc="-1" strike="noStrike">
                <a:solidFill>
                  <a:srgbClr val="339933"/>
                </a:solidFill>
                <a:latin typeface="Calibri"/>
              </a:rPr>
              <a:t>表</a:t>
            </a: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副标题 2"/>
          <p:cNvSpPr/>
          <p:nvPr/>
        </p:nvSpPr>
        <p:spPr>
          <a:xfrm>
            <a:off x="857160" y="1557360"/>
            <a:ext cx="7715520" cy="45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华文楷体"/>
                <a:ea typeface="华文楷体"/>
              </a:rPr>
              <a:t>填报范围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企业</a:t>
            </a:r>
            <a:r>
              <a:rPr b="1" lang="en-US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zh-CN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集团</a:t>
            </a:r>
            <a:r>
              <a:rPr b="1" lang="en-US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r>
              <a:rPr b="1" lang="zh-CN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在境外投资成立的成员企事业单位，成员企业在境外投资成立的企业</a:t>
            </a:r>
            <a:r>
              <a:rPr b="1" lang="en-US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zh-CN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包括二级、三级等全部对外投资企业</a:t>
            </a:r>
            <a:r>
              <a:rPr b="1" lang="en-US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r>
              <a:rPr b="1" lang="zh-CN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机构</a:t>
            </a:r>
            <a:r>
              <a:rPr b="1" lang="en-US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zh-CN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办事处</a:t>
            </a:r>
            <a:r>
              <a:rPr b="1" lang="en-US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r>
              <a:rPr b="1" lang="zh-CN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华文楷体"/>
                <a:ea typeface="华文楷体"/>
              </a:rPr>
              <a:t>填报内容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境外企业基本情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企业</a:t>
            </a:r>
            <a:r>
              <a:rPr b="1" lang="zh-CN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zh-CN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集团</a:t>
            </a:r>
            <a:r>
              <a:rPr b="1" lang="zh-CN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r>
              <a:rPr b="1" lang="zh-CN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投资情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28800" cy="955800"/>
          </a:xfrm>
          <a:prstGeom prst="rect">
            <a:avLst/>
          </a:prstGeom>
          <a:ln w="0">
            <a:noFill/>
          </a:ln>
        </p:spPr>
      </p:pic>
      <p:sp>
        <p:nvSpPr>
          <p:cNvPr id="612" name="副标题 5"/>
          <p:cNvSpPr/>
          <p:nvPr/>
        </p:nvSpPr>
        <p:spPr>
          <a:xfrm>
            <a:off x="571680" y="1073160"/>
            <a:ext cx="821520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9933"/>
                </a:solidFill>
                <a:latin typeface="Calibri"/>
              </a:rPr>
              <a:t>企业</a:t>
            </a: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(</a:t>
            </a:r>
            <a:r>
              <a:rPr b="1" lang="zh-CN" sz="3600" spc="-1" strike="noStrike">
                <a:solidFill>
                  <a:srgbClr val="339933"/>
                </a:solidFill>
                <a:latin typeface="Calibri"/>
              </a:rPr>
              <a:t>集团</a:t>
            </a: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)</a:t>
            </a:r>
            <a:r>
              <a:rPr b="1" lang="zh-CN" sz="3600" spc="-1" strike="noStrike">
                <a:solidFill>
                  <a:srgbClr val="339933"/>
                </a:solidFill>
                <a:latin typeface="Calibri"/>
              </a:rPr>
              <a:t>调查问卷</a:t>
            </a: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(JT4</a:t>
            </a:r>
            <a:r>
              <a:rPr b="1" lang="zh-CN" sz="3600" spc="-1" strike="noStrike">
                <a:solidFill>
                  <a:srgbClr val="339933"/>
                </a:solidFill>
                <a:latin typeface="Calibri"/>
              </a:rPr>
              <a:t>表</a:t>
            </a: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副标题 2"/>
          <p:cNvSpPr/>
          <p:nvPr/>
        </p:nvSpPr>
        <p:spPr>
          <a:xfrm>
            <a:off x="1185840" y="2347920"/>
            <a:ext cx="7419960" cy="36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、企业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集团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技术创新情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二、企业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集团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供给侧结构性改革情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三、企业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集团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互联网应用情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四、企业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集团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经营情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4" name=""/>
          <p:cNvGraphicFramePr/>
          <p:nvPr/>
        </p:nvGraphicFramePr>
        <p:xfrm>
          <a:off x="393840" y="763560"/>
          <a:ext cx="8427960" cy="5259240"/>
        </p:xfrm>
        <a:graphic>
          <a:graphicData uri="http://schemas.openxmlformats.org/drawingml/2006/table">
            <a:tbl>
              <a:tblPr/>
              <a:tblGrid>
                <a:gridCol w="3560760"/>
                <a:gridCol w="4867200"/>
              </a:tblGrid>
              <a:tr h="601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报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填报范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10512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企业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(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集团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)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统计年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(JT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表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企业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(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集团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10522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企业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(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集团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)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成员企业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(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单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)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一览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(JT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表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企业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(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集团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)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一级成员企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 u="sng">
                          <a:solidFill>
                            <a:srgbClr val="000000"/>
                          </a:solidFill>
                          <a:uFillTx/>
                          <a:latin typeface="华文中宋"/>
                          <a:ea typeface="华文中宋"/>
                        </a:rPr>
                        <a:t>包括企业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华文中宋"/>
                          <a:ea typeface="华文中宋"/>
                        </a:rPr>
                        <a:t>(</a:t>
                      </a:r>
                      <a:r>
                        <a:rPr b="0" lang="zh-CN" sz="1800" spc="-1" strike="noStrike" u="sng">
                          <a:solidFill>
                            <a:srgbClr val="000000"/>
                          </a:solidFill>
                          <a:uFillTx/>
                          <a:latin typeface="华文中宋"/>
                          <a:ea typeface="华文中宋"/>
                        </a:rPr>
                        <a:t>集团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华文中宋"/>
                          <a:ea typeface="华文中宋"/>
                        </a:rPr>
                        <a:t>)</a:t>
                      </a:r>
                      <a:r>
                        <a:rPr b="0" lang="zh-CN" sz="1800" spc="-1" strike="noStrike" u="sng">
                          <a:solidFill>
                            <a:srgbClr val="000000"/>
                          </a:solidFill>
                          <a:uFillTx/>
                          <a:latin typeface="华文中宋"/>
                          <a:ea typeface="华文中宋"/>
                        </a:rPr>
                        <a:t>母公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1501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企业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(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集团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)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境外投资情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(JT3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表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企业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(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集团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)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在境外投资成立的成员企事业单位，成员企业在境外投资成立的企业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(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包括二级、三级等全部对外投资企业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)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、机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(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办事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10522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企业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(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集团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)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调查问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(JT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表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企业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(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集团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28800" cy="955800"/>
          </a:xfrm>
          <a:prstGeom prst="rect">
            <a:avLst/>
          </a:prstGeom>
          <a:ln w="0">
            <a:noFill/>
          </a:ln>
        </p:spPr>
      </p:pic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714240" y="107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培训内容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1285920" y="2852280"/>
            <a:ext cx="6888240" cy="24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8501"/>
              </a:spcBef>
              <a:spcAft>
                <a:spcPts val="2200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日培训内容：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016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年度年报制度内容讲解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3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日培训内容：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网上直报程序操作培训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专项调查问卷内容讲解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直接连接符 4"/>
          <p:cNvSpPr/>
          <p:nvPr/>
        </p:nvSpPr>
        <p:spPr>
          <a:xfrm>
            <a:off x="1285920" y="2214720"/>
            <a:ext cx="6572160" cy="1440"/>
          </a:xfrm>
          <a:prstGeom prst="line">
            <a:avLst/>
          </a:prstGeom>
          <a:ln w="381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Box 3"/>
          <p:cNvSpPr/>
          <p:nvPr/>
        </p:nvSpPr>
        <p:spPr>
          <a:xfrm>
            <a:off x="1341360" y="770040"/>
            <a:ext cx="700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二、易混淆指标解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图片 3" descr=""/>
          <p:cNvPicPr/>
          <p:nvPr/>
        </p:nvPicPr>
        <p:blipFill>
          <a:blip r:embed="rId1"/>
          <a:stretch/>
        </p:blipFill>
        <p:spPr>
          <a:xfrm>
            <a:off x="4356000" y="2781360"/>
            <a:ext cx="4572000" cy="1079280"/>
          </a:xfrm>
          <a:prstGeom prst="rect">
            <a:avLst/>
          </a:prstGeom>
          <a:ln w="0">
            <a:noFill/>
          </a:ln>
        </p:spPr>
      </p:pic>
      <p:sp>
        <p:nvSpPr>
          <p:cNvPr id="617" name="文本框 5"/>
          <p:cNvSpPr/>
          <p:nvPr/>
        </p:nvSpPr>
        <p:spPr>
          <a:xfrm>
            <a:off x="365040" y="2205000"/>
            <a:ext cx="370224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固定资产净值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固定资产原值减去累计折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本年折旧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非累计折旧，仅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016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年度折旧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文本框 5"/>
          <p:cNvSpPr/>
          <p:nvPr/>
        </p:nvSpPr>
        <p:spPr>
          <a:xfrm>
            <a:off x="393840" y="669960"/>
            <a:ext cx="3817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期末对外投资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分为持有至到期投资、长期股权投资、可供出售金融资产和交易性金融资产四项之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本年对外投资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期末对外投资中的本年发生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本年对境外投资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本年对外投资中的境外部分发生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图片 2" descr=""/>
          <p:cNvPicPr/>
          <p:nvPr/>
        </p:nvPicPr>
        <p:blipFill>
          <a:blip r:embed="rId1"/>
          <a:stretch/>
        </p:blipFill>
        <p:spPr>
          <a:xfrm>
            <a:off x="4427640" y="2347920"/>
            <a:ext cx="434484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文本框 5"/>
          <p:cNvSpPr/>
          <p:nvPr/>
        </p:nvSpPr>
        <p:spPr>
          <a:xfrm>
            <a:off x="393840" y="669960"/>
            <a:ext cx="3817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注意事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年末资产总计必然等于年末负债合计与年末股东（所有者）权益合计之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填报单位为万元，无小数，四舍五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由于四舍五入的关系，产生负债加所有者权益未等于资产，请自行调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图片 1" descr=""/>
          <p:cNvPicPr/>
          <p:nvPr/>
        </p:nvPicPr>
        <p:blipFill>
          <a:blip r:embed="rId1"/>
          <a:stretch/>
        </p:blipFill>
        <p:spPr>
          <a:xfrm>
            <a:off x="4597560" y="1959120"/>
            <a:ext cx="4236840" cy="533160"/>
          </a:xfrm>
          <a:prstGeom prst="rect">
            <a:avLst/>
          </a:prstGeom>
          <a:ln w="0">
            <a:noFill/>
          </a:ln>
        </p:spPr>
      </p:pic>
      <p:pic>
        <p:nvPicPr>
          <p:cNvPr id="622" name="图片 3" descr=""/>
          <p:cNvPicPr/>
          <p:nvPr/>
        </p:nvPicPr>
        <p:blipFill>
          <a:blip r:embed="rId2"/>
          <a:stretch/>
        </p:blipFill>
        <p:spPr>
          <a:xfrm>
            <a:off x="4592520" y="3102120"/>
            <a:ext cx="4300560" cy="504720"/>
          </a:xfrm>
          <a:prstGeom prst="rect">
            <a:avLst/>
          </a:prstGeom>
          <a:ln w="0">
            <a:noFill/>
          </a:ln>
        </p:spPr>
      </p:pic>
      <p:pic>
        <p:nvPicPr>
          <p:cNvPr id="623" name="图片 4" descr=""/>
          <p:cNvPicPr/>
          <p:nvPr/>
        </p:nvPicPr>
        <p:blipFill>
          <a:blip r:embed="rId3"/>
          <a:stretch/>
        </p:blipFill>
        <p:spPr>
          <a:xfrm>
            <a:off x="4592520" y="4221000"/>
            <a:ext cx="431028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文本框 5"/>
          <p:cNvSpPr/>
          <p:nvPr/>
        </p:nvSpPr>
        <p:spPr>
          <a:xfrm>
            <a:off x="530280" y="1916280"/>
            <a:ext cx="3249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修改指标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根据国家统计局最新要求，往年的“营业税金及附加”指标改为了今年的“税金及附加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图片 2" descr=""/>
          <p:cNvPicPr/>
          <p:nvPr/>
        </p:nvPicPr>
        <p:blipFill>
          <a:blip r:embed="rId1"/>
          <a:stretch/>
        </p:blipFill>
        <p:spPr>
          <a:xfrm>
            <a:off x="3924360" y="2997360"/>
            <a:ext cx="511020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28800" cy="955800"/>
          </a:xfrm>
          <a:prstGeom prst="rect">
            <a:avLst/>
          </a:prstGeom>
          <a:ln w="0">
            <a:noFill/>
          </a:ln>
        </p:spPr>
      </p:pic>
      <p:sp>
        <p:nvSpPr>
          <p:cNvPr id="627" name="TextBox 3"/>
          <p:cNvSpPr/>
          <p:nvPr/>
        </p:nvSpPr>
        <p:spPr>
          <a:xfrm>
            <a:off x="1341360" y="770040"/>
            <a:ext cx="700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三、上报时间和方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标题 1"/>
          <p:cNvSpPr/>
          <p:nvPr/>
        </p:nvSpPr>
        <p:spPr>
          <a:xfrm>
            <a:off x="682560" y="1700280"/>
            <a:ext cx="7772400" cy="44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上报方式：网上直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开始时间：</a:t>
            </a:r>
            <a:r>
              <a:rPr b="1" lang="en-US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2017</a:t>
            </a:r>
            <a:r>
              <a:rPr b="1" lang="zh-CN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年</a:t>
            </a:r>
            <a:r>
              <a:rPr b="1" lang="en-US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4</a:t>
            </a:r>
            <a:r>
              <a:rPr b="1" lang="zh-CN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月</a:t>
            </a:r>
            <a:r>
              <a:rPr b="1" lang="en-US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12</a:t>
            </a:r>
            <a:r>
              <a:rPr b="1" lang="zh-CN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截止时间：</a:t>
            </a:r>
            <a:r>
              <a:rPr b="1" lang="en-US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2017</a:t>
            </a:r>
            <a:r>
              <a:rPr b="1" lang="zh-CN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年</a:t>
            </a:r>
            <a:r>
              <a:rPr b="1" lang="en-US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5</a:t>
            </a:r>
            <a:r>
              <a:rPr b="1" lang="zh-CN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月</a:t>
            </a:r>
            <a:r>
              <a:rPr b="1" lang="en-US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31</a:t>
            </a:r>
            <a:r>
              <a:rPr b="1" lang="zh-CN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28800" cy="955800"/>
          </a:xfrm>
          <a:prstGeom prst="rect">
            <a:avLst/>
          </a:prstGeom>
          <a:ln w="0">
            <a:noFill/>
          </a:ln>
        </p:spPr>
      </p:pic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971640" y="11556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上报内容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AutoShape 8"/>
          <p:cNvSpPr/>
          <p:nvPr/>
        </p:nvSpPr>
        <p:spPr>
          <a:xfrm>
            <a:off x="1014480" y="3357720"/>
            <a:ext cx="3127320" cy="892080"/>
          </a:xfrm>
          <a:prstGeom prst="roundRect">
            <a:avLst>
              <a:gd name="adj" fmla="val 10000"/>
            </a:avLst>
          </a:prstGeom>
          <a:solidFill>
            <a:srgbClr val="cbd4ea">
              <a:alpha val="89000"/>
            </a:srgbClr>
          </a:solidFill>
          <a:ln w="9360">
            <a:solidFill>
              <a:srgbClr val="0c6d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9"/>
          <p:cNvSpPr/>
          <p:nvPr/>
        </p:nvSpPr>
        <p:spPr>
          <a:xfrm>
            <a:off x="1052640" y="3382920"/>
            <a:ext cx="30510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760" rIns="41760" tIns="28080" bIns="28080" anchor="ctr">
            <a:normAutofit/>
          </a:bodyPr>
          <a:p>
            <a:pPr algn="ctr">
              <a:lnSpc>
                <a:spcPct val="90000"/>
              </a:lnSpc>
              <a:spcAft>
                <a:spcPts val="9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黑体"/>
                <a:ea typeface="黑体"/>
              </a:rPr>
              <a:t>纸质报表</a:t>
            </a:r>
            <a:r>
              <a:rPr b="1" lang="en-US" sz="2200" spc="-1" strike="noStrike">
                <a:solidFill>
                  <a:srgbClr val="ff0000"/>
                </a:solidFill>
                <a:latin typeface="黑体"/>
                <a:ea typeface="黑体"/>
              </a:rPr>
              <a:t>(</a:t>
            </a:r>
            <a:r>
              <a:rPr b="1" lang="zh-CN" sz="2200" spc="-1" strike="noStrike">
                <a:solidFill>
                  <a:srgbClr val="ff0000"/>
                </a:solidFill>
                <a:latin typeface="黑体"/>
                <a:ea typeface="黑体"/>
              </a:rPr>
              <a:t>盖公章</a:t>
            </a:r>
            <a:r>
              <a:rPr b="1" lang="en-US" sz="2200" spc="-1" strike="noStrike">
                <a:solidFill>
                  <a:srgbClr val="ff0000"/>
                </a:solidFill>
                <a:latin typeface="黑体"/>
                <a:ea typeface="黑体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黑体"/>
                <a:ea typeface="黑体"/>
              </a:rPr>
              <a:t>方式：邮寄</a:t>
            </a:r>
            <a:r>
              <a:rPr b="1" lang="en-US" sz="1800" spc="-1" strike="noStrike">
                <a:solidFill>
                  <a:srgbClr val="262626"/>
                </a:solidFill>
                <a:latin typeface="黑体"/>
                <a:ea typeface="黑体"/>
              </a:rPr>
              <a:t>/</a:t>
            </a:r>
            <a:r>
              <a:rPr b="1" lang="zh-CN" sz="1800" spc="-1" strike="noStrike">
                <a:solidFill>
                  <a:srgbClr val="262626"/>
                </a:solidFill>
                <a:latin typeface="黑体"/>
                <a:ea typeface="黑体"/>
              </a:rPr>
              <a:t>快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AutoShape 11"/>
          <p:cNvSpPr/>
          <p:nvPr/>
        </p:nvSpPr>
        <p:spPr>
          <a:xfrm>
            <a:off x="4862520" y="2168640"/>
            <a:ext cx="3852720" cy="893520"/>
          </a:xfrm>
          <a:prstGeom prst="roundRect">
            <a:avLst>
              <a:gd name="adj" fmla="val 10000"/>
            </a:avLst>
          </a:prstGeom>
          <a:solidFill>
            <a:srgbClr val="cbd4ea">
              <a:alpha val="89000"/>
            </a:srgbClr>
          </a:solidFill>
          <a:ln w="9360">
            <a:solidFill>
              <a:srgbClr val="0c6d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12"/>
          <p:cNvSpPr/>
          <p:nvPr/>
        </p:nvSpPr>
        <p:spPr>
          <a:xfrm>
            <a:off x="4898880" y="2195640"/>
            <a:ext cx="3759480" cy="8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25560" bIns="25560" anchor="ctr">
            <a:normAutofit/>
          </a:bodyPr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黑体"/>
                <a:ea typeface="黑体"/>
              </a:rPr>
              <a:t>企业</a:t>
            </a:r>
            <a:r>
              <a:rPr b="1" lang="en-US" sz="1800" spc="-1" strike="noStrike">
                <a:solidFill>
                  <a:srgbClr val="262626"/>
                </a:solidFill>
                <a:latin typeface="黑体"/>
                <a:ea typeface="黑体"/>
              </a:rPr>
              <a:t>(</a:t>
            </a:r>
            <a:r>
              <a:rPr b="1" lang="zh-CN" sz="1800" spc="-1" strike="noStrike">
                <a:solidFill>
                  <a:srgbClr val="262626"/>
                </a:solidFill>
                <a:latin typeface="黑体"/>
                <a:ea typeface="黑体"/>
              </a:rPr>
              <a:t>集团</a:t>
            </a:r>
            <a:r>
              <a:rPr b="1" lang="en-US" sz="1800" spc="-1" strike="noStrike">
                <a:solidFill>
                  <a:srgbClr val="262626"/>
                </a:solidFill>
                <a:latin typeface="黑体"/>
                <a:ea typeface="黑体"/>
              </a:rPr>
              <a:t>)</a:t>
            </a:r>
            <a:r>
              <a:rPr b="1" lang="zh-CN" sz="1800" spc="-1" strike="noStrike">
                <a:solidFill>
                  <a:srgbClr val="262626"/>
                </a:solidFill>
                <a:latin typeface="黑体"/>
                <a:ea typeface="黑体"/>
              </a:rPr>
              <a:t>统计年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黑体"/>
                <a:ea typeface="黑体"/>
              </a:rPr>
              <a:t>(JT1</a:t>
            </a:r>
            <a:r>
              <a:rPr b="1" lang="zh-CN" sz="1800" spc="-1" strike="noStrike">
                <a:solidFill>
                  <a:srgbClr val="262626"/>
                </a:solidFill>
                <a:latin typeface="黑体"/>
                <a:ea typeface="黑体"/>
              </a:rPr>
              <a:t>表</a:t>
            </a:r>
            <a:r>
              <a:rPr b="1" lang="en-US" sz="1800" spc="-1" strike="noStrike">
                <a:solidFill>
                  <a:srgbClr val="262626"/>
                </a:solidFill>
                <a:latin typeface="黑体"/>
                <a:ea typeface="黑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AutoShape 17"/>
          <p:cNvSpPr/>
          <p:nvPr/>
        </p:nvSpPr>
        <p:spPr>
          <a:xfrm>
            <a:off x="1014480" y="5357880"/>
            <a:ext cx="3754440" cy="892080"/>
          </a:xfrm>
          <a:prstGeom prst="roundRect">
            <a:avLst>
              <a:gd name="adj" fmla="val 10000"/>
            </a:avLst>
          </a:prstGeom>
          <a:solidFill>
            <a:srgbClr val="cbd4ea">
              <a:alpha val="89000"/>
            </a:srgbClr>
          </a:solidFill>
          <a:ln w="9360">
            <a:solidFill>
              <a:srgbClr val="0c6d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18"/>
          <p:cNvSpPr/>
          <p:nvPr/>
        </p:nvSpPr>
        <p:spPr>
          <a:xfrm>
            <a:off x="1052640" y="5383080"/>
            <a:ext cx="3662280" cy="8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760" rIns="41760" tIns="28080" bIns="28080" anchor="ctr">
            <a:normAutofit/>
          </a:bodyPr>
          <a:p>
            <a:pPr algn="ctr">
              <a:lnSpc>
                <a:spcPct val="90000"/>
              </a:lnSpc>
              <a:spcAft>
                <a:spcPts val="9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黑体"/>
                <a:ea typeface="黑体"/>
              </a:rPr>
              <a:t>集团分析材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黑体"/>
                <a:ea typeface="黑体"/>
              </a:rPr>
              <a:t>方式：邮寄</a:t>
            </a:r>
            <a:r>
              <a:rPr b="1" lang="en-US" sz="1800" spc="-1" strike="noStrike">
                <a:solidFill>
                  <a:srgbClr val="262626"/>
                </a:solidFill>
                <a:latin typeface="黑体"/>
                <a:ea typeface="黑体"/>
              </a:rPr>
              <a:t>/</a:t>
            </a:r>
            <a:r>
              <a:rPr b="1" lang="zh-CN" sz="1800" spc="-1" strike="noStrike">
                <a:solidFill>
                  <a:srgbClr val="262626"/>
                </a:solidFill>
                <a:latin typeface="黑体"/>
                <a:ea typeface="黑体"/>
              </a:rPr>
              <a:t>快递</a:t>
            </a:r>
            <a:r>
              <a:rPr b="1" lang="en-US" sz="1800" spc="-1" strike="noStrike">
                <a:solidFill>
                  <a:srgbClr val="262626"/>
                </a:solidFill>
                <a:latin typeface="黑体"/>
                <a:ea typeface="黑体"/>
              </a:rPr>
              <a:t>/</a:t>
            </a:r>
            <a:r>
              <a:rPr b="1" lang="zh-CN" sz="1800" spc="-1" strike="noStrike">
                <a:solidFill>
                  <a:srgbClr val="262626"/>
                </a:solidFill>
                <a:latin typeface="黑体"/>
                <a:ea typeface="黑体"/>
              </a:rPr>
              <a:t>电子邮箱</a:t>
            </a:r>
            <a:r>
              <a:rPr b="1" lang="en-US" sz="1800" spc="-1" strike="noStrike">
                <a:solidFill>
                  <a:srgbClr val="262626"/>
                </a:solidFill>
                <a:latin typeface="黑体"/>
                <a:ea typeface="黑体"/>
              </a:rPr>
              <a:t>/Q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AutoShape 14"/>
          <p:cNvSpPr/>
          <p:nvPr/>
        </p:nvSpPr>
        <p:spPr>
          <a:xfrm>
            <a:off x="4862520" y="4383000"/>
            <a:ext cx="3852720" cy="893880"/>
          </a:xfrm>
          <a:prstGeom prst="roundRect">
            <a:avLst>
              <a:gd name="adj" fmla="val 10000"/>
            </a:avLst>
          </a:prstGeom>
          <a:solidFill>
            <a:srgbClr val="cbd4ea">
              <a:alpha val="89000"/>
            </a:srgbClr>
          </a:solidFill>
          <a:ln w="9360">
            <a:solidFill>
              <a:srgbClr val="0c6d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15"/>
          <p:cNvSpPr/>
          <p:nvPr/>
        </p:nvSpPr>
        <p:spPr>
          <a:xfrm>
            <a:off x="4898880" y="4410000"/>
            <a:ext cx="375948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760" rIns="41760" tIns="28080" bIns="28080" anchor="ctr">
            <a:normAutofit/>
          </a:bodyPr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黑体"/>
                <a:ea typeface="黑体"/>
              </a:rPr>
              <a:t>企业</a:t>
            </a:r>
            <a:r>
              <a:rPr b="1" lang="en-US" sz="1800" spc="-1" strike="noStrike">
                <a:solidFill>
                  <a:srgbClr val="262626"/>
                </a:solidFill>
                <a:latin typeface="黑体"/>
                <a:ea typeface="黑体"/>
              </a:rPr>
              <a:t>(</a:t>
            </a:r>
            <a:r>
              <a:rPr b="1" lang="zh-CN" sz="1800" spc="-1" strike="noStrike">
                <a:solidFill>
                  <a:srgbClr val="262626"/>
                </a:solidFill>
                <a:latin typeface="黑体"/>
                <a:ea typeface="黑体"/>
              </a:rPr>
              <a:t>集团</a:t>
            </a:r>
            <a:r>
              <a:rPr b="1" lang="en-US" sz="1800" spc="-1" strike="noStrike">
                <a:solidFill>
                  <a:srgbClr val="262626"/>
                </a:solidFill>
                <a:latin typeface="黑体"/>
                <a:ea typeface="黑体"/>
              </a:rPr>
              <a:t>)</a:t>
            </a:r>
            <a:r>
              <a:rPr b="1" lang="zh-CN" sz="1800" spc="-1" strike="noStrike">
                <a:solidFill>
                  <a:srgbClr val="262626"/>
                </a:solidFill>
                <a:latin typeface="黑体"/>
                <a:ea typeface="黑体"/>
              </a:rPr>
              <a:t>调查问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黑体"/>
                <a:ea typeface="黑体"/>
              </a:rPr>
              <a:t>(JT4</a:t>
            </a:r>
            <a:r>
              <a:rPr b="1" lang="zh-CN" sz="1800" spc="-1" strike="noStrike">
                <a:solidFill>
                  <a:srgbClr val="262626"/>
                </a:solidFill>
                <a:latin typeface="黑体"/>
                <a:ea typeface="黑体"/>
              </a:rPr>
              <a:t>表</a:t>
            </a:r>
            <a:r>
              <a:rPr b="1" lang="en-US" sz="1800" spc="-1" strike="noStrike">
                <a:solidFill>
                  <a:srgbClr val="262626"/>
                </a:solidFill>
                <a:latin typeface="黑体"/>
                <a:ea typeface="黑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左大括号 19"/>
          <p:cNvSpPr/>
          <p:nvPr/>
        </p:nvSpPr>
        <p:spPr>
          <a:xfrm>
            <a:off x="4300560" y="2525760"/>
            <a:ext cx="428760" cy="2403360"/>
          </a:xfrm>
          <a:custGeom>
            <a:avLst/>
            <a:gdLst>
              <a:gd name="textAreaLeft" fmla="*/ 273960 w 428760"/>
              <a:gd name="textAreaRight" fmla="*/ 429120 w 428760"/>
              <a:gd name="textAreaTop" fmla="*/ 11160 h 2403360"/>
              <a:gd name="textAreaBottom" fmla="*/ 2392200 h 2403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1"/>
                  <a:pt x="10800" y="321"/>
                </a:cubicBezTo>
                <a:lnTo>
                  <a:pt x="10800" y="10479"/>
                </a:lnTo>
                <a:cubicBezTo>
                  <a:pt x="10800" y="10640"/>
                  <a:pt x="5400" y="10800"/>
                  <a:pt x="0" y="10800"/>
                </a:cubicBezTo>
                <a:cubicBezTo>
                  <a:pt x="5400" y="10800"/>
                  <a:pt x="10800" y="10961"/>
                  <a:pt x="10800" y="11121"/>
                </a:cubicBezTo>
                <a:lnTo>
                  <a:pt x="10800" y="21279"/>
                </a:lnTo>
                <a:cubicBezTo>
                  <a:pt x="10800" y="2144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左大括号 21"/>
          <p:cNvSpPr/>
          <p:nvPr/>
        </p:nvSpPr>
        <p:spPr>
          <a:xfrm>
            <a:off x="514440" y="1928880"/>
            <a:ext cx="428400" cy="3975120"/>
          </a:xfrm>
          <a:custGeom>
            <a:avLst/>
            <a:gdLst>
              <a:gd name="textAreaLeft" fmla="*/ 273600 w 428400"/>
              <a:gd name="textAreaRight" fmla="*/ 428760 w 428400"/>
              <a:gd name="textAreaTop" fmla="*/ 11160 h 3975120"/>
              <a:gd name="textAreaBottom" fmla="*/ 3963960 h 397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7"/>
                  <a:pt x="10800" y="194"/>
                </a:cubicBezTo>
                <a:lnTo>
                  <a:pt x="10800" y="10606"/>
                </a:lnTo>
                <a:cubicBezTo>
                  <a:pt x="10800" y="10703"/>
                  <a:pt x="5400" y="10800"/>
                  <a:pt x="0" y="10800"/>
                </a:cubicBezTo>
                <a:cubicBezTo>
                  <a:pt x="5400" y="10800"/>
                  <a:pt x="10800" y="10897"/>
                  <a:pt x="10800" y="10994"/>
                </a:cubicBezTo>
                <a:lnTo>
                  <a:pt x="10800" y="21406"/>
                </a:lnTo>
                <a:cubicBezTo>
                  <a:pt x="10800" y="2150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AutoShape 8"/>
          <p:cNvSpPr/>
          <p:nvPr/>
        </p:nvSpPr>
        <p:spPr>
          <a:xfrm>
            <a:off x="1014480" y="1500120"/>
            <a:ext cx="3127320" cy="892080"/>
          </a:xfrm>
          <a:prstGeom prst="roundRect">
            <a:avLst>
              <a:gd name="adj" fmla="val 10000"/>
            </a:avLst>
          </a:prstGeom>
          <a:solidFill>
            <a:srgbClr val="cbd4ea">
              <a:alpha val="89000"/>
            </a:srgbClr>
          </a:solidFill>
          <a:ln w="9360">
            <a:solidFill>
              <a:srgbClr val="0c6d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9"/>
          <p:cNvSpPr/>
          <p:nvPr/>
        </p:nvSpPr>
        <p:spPr>
          <a:xfrm>
            <a:off x="1052640" y="1525680"/>
            <a:ext cx="30510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760" rIns="41760" tIns="28080" bIns="28080" anchor="ctr">
            <a:normAutofit/>
          </a:bodyPr>
          <a:p>
            <a:pPr algn="ctr">
              <a:lnSpc>
                <a:spcPct val="90000"/>
              </a:lnSpc>
              <a:spcAft>
                <a:spcPts val="9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黑体"/>
                <a:ea typeface="黑体"/>
              </a:rPr>
              <a:t>电子报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黑体"/>
                <a:ea typeface="黑体"/>
              </a:rPr>
              <a:t>方式：网上直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矩形 1"/>
          <p:cNvSpPr/>
          <p:nvPr/>
        </p:nvSpPr>
        <p:spPr>
          <a:xfrm>
            <a:off x="538200" y="1117440"/>
            <a:ext cx="8067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.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上海统计网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http://www.stats-sh.gov.cn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首页最下方：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下载中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3"/>
          <p:cNvSpPr/>
          <p:nvPr/>
        </p:nvSpPr>
        <p:spPr>
          <a:xfrm>
            <a:off x="1341360" y="331920"/>
            <a:ext cx="700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四、电子版报表及资料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Picture 6" descr="F:\360截图20140302164527348.png"/>
          <p:cNvPicPr/>
          <p:nvPr/>
        </p:nvPicPr>
        <p:blipFill>
          <a:blip r:embed="rId1"/>
          <a:stretch/>
        </p:blipFill>
        <p:spPr>
          <a:xfrm>
            <a:off x="898560" y="1693800"/>
            <a:ext cx="7126200" cy="151308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7" descr="F:\360截图20140302165348164.png"/>
          <p:cNvPicPr/>
          <p:nvPr/>
        </p:nvPicPr>
        <p:blipFill>
          <a:blip r:embed="rId2"/>
          <a:stretch/>
        </p:blipFill>
        <p:spPr>
          <a:xfrm>
            <a:off x="898560" y="3822840"/>
            <a:ext cx="7130880" cy="2828880"/>
          </a:xfrm>
          <a:prstGeom prst="rect">
            <a:avLst/>
          </a:prstGeom>
          <a:ln w="0">
            <a:noFill/>
          </a:ln>
        </p:spPr>
      </p:pic>
      <p:sp>
        <p:nvSpPr>
          <p:cNvPr id="647" name="圆角矩形 7"/>
          <p:cNvSpPr/>
          <p:nvPr/>
        </p:nvSpPr>
        <p:spPr>
          <a:xfrm>
            <a:off x="4643280" y="3718080"/>
            <a:ext cx="1586160" cy="2087280"/>
          </a:xfrm>
          <a:custGeom>
            <a:avLst/>
            <a:gdLst>
              <a:gd name="textAreaLeft" fmla="*/ 77400 w 1586160"/>
              <a:gd name="textAreaRight" fmla="*/ 1508760 w 1586160"/>
              <a:gd name="textAreaTop" fmla="*/ 77400 h 2087280"/>
              <a:gd name="textAreaBottom" fmla="*/ 2009880 h 2087280"/>
            </a:gdLst>
            <a:ahLst/>
            <a:rect l="textAreaLeft" t="textAreaTop" r="textAreaRight" b="textAreaBottom"/>
            <a:pathLst>
              <a:path w="21600" h="28423">
                <a:moveTo>
                  <a:pt x="3600" y="0"/>
                </a:moveTo>
                <a:arcTo wR="3600" hR="3600" stAng="16200000" swAng="-5400000"/>
                <a:lnTo>
                  <a:pt x="0" y="24823"/>
                </a:lnTo>
                <a:arcTo wR="3600" hR="3600" stAng="10800000" swAng="-5400000"/>
                <a:lnTo>
                  <a:pt x="18000" y="284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矩形 1"/>
          <p:cNvSpPr/>
          <p:nvPr/>
        </p:nvSpPr>
        <p:spPr>
          <a:xfrm>
            <a:off x="393840" y="1555920"/>
            <a:ext cx="8283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.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网上直报平台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http://wb3.stats-sh.gov.cn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首页最左方：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公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Picture 2" descr="F:\360截图20140302170016634.png"/>
          <p:cNvPicPr/>
          <p:nvPr/>
        </p:nvPicPr>
        <p:blipFill>
          <a:blip r:embed="rId1"/>
          <a:stretch/>
        </p:blipFill>
        <p:spPr>
          <a:xfrm>
            <a:off x="322200" y="3429000"/>
            <a:ext cx="8621640" cy="2200320"/>
          </a:xfrm>
          <a:prstGeom prst="rect">
            <a:avLst/>
          </a:prstGeom>
          <a:ln w="0">
            <a:noFill/>
          </a:ln>
        </p:spPr>
      </p:pic>
      <p:sp>
        <p:nvSpPr>
          <p:cNvPr id="650" name="圆角矩形 7"/>
          <p:cNvSpPr/>
          <p:nvPr/>
        </p:nvSpPr>
        <p:spPr>
          <a:xfrm>
            <a:off x="393840" y="4149720"/>
            <a:ext cx="3241440" cy="15843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矩形 1"/>
          <p:cNvSpPr/>
          <p:nvPr/>
        </p:nvSpPr>
        <p:spPr>
          <a:xfrm>
            <a:off x="969840" y="1916280"/>
            <a:ext cx="7419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3.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微信公众号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：“上海企业集团统计调查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shqyjttjdc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图片 2" descr=""/>
          <p:cNvPicPr/>
          <p:nvPr/>
        </p:nvPicPr>
        <p:blipFill>
          <a:blip r:embed="rId1"/>
          <a:stretch/>
        </p:blipFill>
        <p:spPr>
          <a:xfrm>
            <a:off x="2914560" y="3500280"/>
            <a:ext cx="309888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3" name="图示 1" descr=""/>
          <p:cNvPicPr/>
          <p:nvPr/>
        </p:nvPicPr>
        <p:blipFill>
          <a:blip r:embed="rId1"/>
          <a:stretch/>
        </p:blipFill>
        <p:spPr>
          <a:xfrm>
            <a:off x="-396720" y="871560"/>
            <a:ext cx="9540720" cy="52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28800" cy="955800"/>
          </a:xfrm>
          <a:prstGeom prst="rect">
            <a:avLst/>
          </a:prstGeom>
          <a:ln w="0">
            <a:noFill/>
          </a:ln>
        </p:spPr>
      </p:pic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1371600" y="2637000"/>
            <a:ext cx="64008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ts val="4799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、报表及重点指标讲解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799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二、易混淆指标解释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799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三、上报时间和方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799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四、电子版报表及资料下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标题 1"/>
          <p:cNvSpPr/>
          <p:nvPr/>
        </p:nvSpPr>
        <p:spPr>
          <a:xfrm>
            <a:off x="642960" y="107172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016</a:t>
            </a: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年度年报制度内容讲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直接连接符 4"/>
          <p:cNvSpPr/>
          <p:nvPr/>
        </p:nvSpPr>
        <p:spPr>
          <a:xfrm>
            <a:off x="1285920" y="2214720"/>
            <a:ext cx="6572160" cy="1440"/>
          </a:xfrm>
          <a:prstGeom prst="line">
            <a:avLst/>
          </a:prstGeom>
          <a:ln w="381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28800" cy="955800"/>
          </a:xfrm>
          <a:prstGeom prst="rect">
            <a:avLst/>
          </a:prstGeom>
          <a:ln w="0">
            <a:noFill/>
          </a:ln>
        </p:spPr>
      </p:pic>
      <p:sp>
        <p:nvSpPr>
          <p:cNvPr id="655" name="标题 1"/>
          <p:cNvSpPr/>
          <p:nvPr/>
        </p:nvSpPr>
        <p:spPr>
          <a:xfrm>
            <a:off x="971640" y="115920"/>
            <a:ext cx="77724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联系方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内容占位符 2"/>
          <p:cNvSpPr/>
          <p:nvPr/>
        </p:nvSpPr>
        <p:spPr>
          <a:xfrm>
            <a:off x="755640" y="2060640"/>
            <a:ext cx="7923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485280" indent="-4852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办公地址：</a:t>
            </a:r>
            <a:r>
              <a:rPr b="0" lang="zh-CN" sz="2600" spc="-1" strike="noStrike">
                <a:solidFill>
                  <a:srgbClr val="0c0c0c"/>
                </a:solidFill>
                <a:latin typeface="华文新魏"/>
                <a:ea typeface="华文新魏"/>
              </a:rPr>
              <a:t>上海市黄浦区威海路</a:t>
            </a:r>
            <a:r>
              <a:rPr b="0" lang="en-US" sz="2600" spc="-1" strike="noStrike">
                <a:solidFill>
                  <a:srgbClr val="0c0c0c"/>
                </a:solidFill>
                <a:latin typeface="华文新魏"/>
                <a:ea typeface="华文新魏"/>
              </a:rPr>
              <a:t>48</a:t>
            </a:r>
            <a:r>
              <a:rPr b="0" lang="zh-CN" sz="2600" spc="-1" strike="noStrike">
                <a:solidFill>
                  <a:srgbClr val="0c0c0c"/>
                </a:solidFill>
                <a:latin typeface="华文新魏"/>
                <a:ea typeface="华文新魏"/>
              </a:rPr>
              <a:t>号</a:t>
            </a:r>
            <a:r>
              <a:rPr b="0" lang="en-US" sz="2600" spc="-1" strike="noStrike">
                <a:solidFill>
                  <a:srgbClr val="0c0c0c"/>
                </a:solidFill>
                <a:latin typeface="华文新魏"/>
                <a:ea typeface="华文新魏"/>
              </a:rPr>
              <a:t>1810</a:t>
            </a:r>
            <a:r>
              <a:rPr b="0" lang="zh-CN" sz="2600" spc="-1" strike="noStrike">
                <a:solidFill>
                  <a:srgbClr val="0c0c0c"/>
                </a:solidFill>
                <a:latin typeface="华文新魏"/>
                <a:ea typeface="华文新魏"/>
              </a:rPr>
              <a:t>室</a:t>
            </a:r>
            <a:r>
              <a:rPr b="0" lang="zh-CN" sz="2600" spc="-1" strike="noStrike">
                <a:solidFill>
                  <a:srgbClr val="0c0c0c"/>
                </a:solidFill>
                <a:latin typeface="华文新魏"/>
                <a:ea typeface="华文新魏"/>
              </a:rPr>
              <a:t>(</a:t>
            </a:r>
            <a:r>
              <a:rPr b="0" lang="en-US" sz="2600" spc="-1" strike="noStrike">
                <a:solidFill>
                  <a:srgbClr val="0c0c0c"/>
                </a:solidFill>
                <a:latin typeface="华文新魏"/>
                <a:ea typeface="华文新魏"/>
              </a:rPr>
              <a:t>200003</a:t>
            </a:r>
            <a:r>
              <a:rPr b="0" lang="zh-CN" sz="2600" spc="-1" strike="noStrike">
                <a:solidFill>
                  <a:srgbClr val="0c0c0c"/>
                </a:solidFill>
                <a:latin typeface="华文新魏"/>
                <a:ea typeface="华文新魏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传</a:t>
            </a:r>
            <a:r>
              <a:rPr b="0" lang="en-US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0" lang="zh-CN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真：</a:t>
            </a:r>
            <a:r>
              <a:rPr b="0" lang="en-US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53851570</a:t>
            </a:r>
            <a:r>
              <a:rPr b="0" lang="zh-CN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邮        箱：</a:t>
            </a:r>
            <a:r>
              <a:rPr b="0" lang="en-US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tjjccbb@126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7" name=""/>
          <p:cNvGraphicFramePr/>
          <p:nvPr/>
        </p:nvGraphicFramePr>
        <p:xfrm>
          <a:off x="755640" y="1554120"/>
          <a:ext cx="7607160" cy="2878200"/>
        </p:xfrm>
        <a:graphic>
          <a:graphicData uri="http://schemas.openxmlformats.org/drawingml/2006/table">
            <a:tbl>
              <a:tblPr/>
              <a:tblGrid>
                <a:gridCol w="1951200"/>
                <a:gridCol w="2705040"/>
                <a:gridCol w="2950920"/>
              </a:tblGrid>
              <a:tr h="501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Calibri"/>
                          <a:ea typeface="华文新魏"/>
                        </a:rPr>
                        <a:t>联系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Calibri"/>
                          <a:ea typeface="华文新魏"/>
                        </a:rPr>
                        <a:t>联系电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华文新魏"/>
                          <a:ea typeface="华文新魏"/>
                        </a:rPr>
                        <a:t>Q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02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华文新魏"/>
                        </a:rPr>
                        <a:t>傅鳌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538575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4978158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01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华文新魏"/>
                        </a:rPr>
                        <a:t>牛国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538515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3588407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华文新魏"/>
                        </a:rPr>
                        <a:t>王冠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538519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871085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华文新魏"/>
                        </a:rPr>
                        <a:t>朱伽圣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538575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4627271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华文新魏"/>
                        </a:rPr>
                        <a:t>何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538515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9080837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28800" cy="955800"/>
          </a:xfrm>
          <a:prstGeom prst="rect">
            <a:avLst/>
          </a:prstGeom>
          <a:ln w="0">
            <a:noFill/>
          </a:ln>
        </p:spPr>
      </p:pic>
      <p:sp>
        <p:nvSpPr>
          <p:cNvPr id="659" name="TextBox 2"/>
          <p:cNvSpPr/>
          <p:nvPr/>
        </p:nvSpPr>
        <p:spPr>
          <a:xfrm>
            <a:off x="1714680" y="571680"/>
            <a:ext cx="5286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矩形 3"/>
          <p:cNvSpPr/>
          <p:nvPr/>
        </p:nvSpPr>
        <p:spPr>
          <a:xfrm>
            <a:off x="2916360" y="2565360"/>
            <a:ext cx="453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da1f28"/>
                </a:solidFill>
                <a:latin typeface="华文新魏"/>
                <a:ea typeface="华文新魏"/>
              </a:rPr>
              <a:t>谢 谢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28800" cy="955800"/>
          </a:xfrm>
          <a:prstGeom prst="rect">
            <a:avLst/>
          </a:prstGeom>
          <a:ln w="0">
            <a:noFill/>
          </a:ln>
        </p:spPr>
      </p:pic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857160" y="1785600"/>
            <a:ext cx="75312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2016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年度年报包括</a:t>
            </a: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张报表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企业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集团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统计年报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(JT1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表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企业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集团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成员企业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位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览表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(JT2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表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企业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集团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境外投资情况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(JT3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表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企业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集团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调查问卷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(JT4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表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TextBox 3"/>
          <p:cNvSpPr/>
          <p:nvPr/>
        </p:nvSpPr>
        <p:spPr>
          <a:xfrm>
            <a:off x="1214280" y="642960"/>
            <a:ext cx="700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、报表及重点指标讲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28800" cy="955800"/>
          </a:xfrm>
          <a:prstGeom prst="rect">
            <a:avLst/>
          </a:prstGeom>
          <a:ln w="0">
            <a:noFill/>
          </a:ln>
        </p:spPr>
      </p:pic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1149480" y="1915920"/>
            <a:ext cx="705960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、企业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集团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概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、企业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集团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财务与劳动工资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相关指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副标题 5"/>
          <p:cNvSpPr/>
          <p:nvPr/>
        </p:nvSpPr>
        <p:spPr>
          <a:xfrm>
            <a:off x="571680" y="568440"/>
            <a:ext cx="821520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9933"/>
                </a:solidFill>
                <a:latin typeface="Calibri"/>
              </a:rPr>
              <a:t>企业</a:t>
            </a: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(</a:t>
            </a:r>
            <a:r>
              <a:rPr b="1" lang="zh-CN" sz="3600" spc="-1" strike="noStrike">
                <a:solidFill>
                  <a:srgbClr val="339933"/>
                </a:solidFill>
                <a:latin typeface="Calibri"/>
              </a:rPr>
              <a:t>集团</a:t>
            </a: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)</a:t>
            </a:r>
            <a:r>
              <a:rPr b="1" lang="zh-CN" sz="3600" spc="-1" strike="noStrike">
                <a:solidFill>
                  <a:srgbClr val="339933"/>
                </a:solidFill>
                <a:latin typeface="Calibri"/>
              </a:rPr>
              <a:t>统计年报</a:t>
            </a: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(JT1</a:t>
            </a:r>
            <a:r>
              <a:rPr b="1" lang="zh-CN" sz="3600" spc="-1" strike="noStrike">
                <a:solidFill>
                  <a:srgbClr val="339933"/>
                </a:solidFill>
                <a:latin typeface="Calibri"/>
              </a:rPr>
              <a:t>表</a:t>
            </a: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28800" cy="95580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826920" y="285480"/>
            <a:ext cx="771552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一）企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集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概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00.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组织机构代码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组织机构代码由八位无属性的数字和一位校验码组成。在填写时，要按照市技术监督部门颁发的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中华人民共和国组织机构代码证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上的代码填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01.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详细名称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按各级工商行政管理部门核准，进行企业法人登记的名称填写。在填写时应与企业公章所使用的名称一致。凡经登记主管机关核准或批准具有两个以上名称的单位，要求填写法人名称，同时用括号注明其余的名称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28800" cy="955800"/>
          </a:xfrm>
          <a:prstGeom prst="rect">
            <a:avLst/>
          </a:prstGeom>
          <a:ln w="0">
            <a:noFill/>
          </a:ln>
        </p:spPr>
      </p:pic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826560" y="1071720"/>
            <a:ext cx="7959960" cy="52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02.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统一社会信用代码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统一社会信用代码由十八位的阿拉伯数字或大写英文字母（不使用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I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Z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组成。在填写时，要按照《营业执照》（证书）上的统一社会信用代码填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03.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企业法定代表人姓名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指企业工商登记时的法定代表人姓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28800" cy="95580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928440" y="491760"/>
            <a:ext cx="7893000" cy="636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04.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区划代码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指</a:t>
            </a: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办公地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所在地区的区划代码，要与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企业地址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相对应。如黄浦区“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310101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崇明区“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310151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境外及外省市“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999999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05.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企业地址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指企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集团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母公司的</a:t>
            </a:r>
            <a:r>
              <a:rPr b="1" lang="zh-CN" sz="2800" spc="-1" strike="noStrike">
                <a:solidFill>
                  <a:srgbClr val="da1f28"/>
                </a:solidFill>
                <a:latin typeface="华文楷体"/>
                <a:ea typeface="华文楷体"/>
              </a:rPr>
              <a:t>办公地址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要填写完整，如：上海市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xx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区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xx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路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xx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号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弄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)xxx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06.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邮政编码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指</a:t>
            </a: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办公地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对外邮寄信函使用的邮政编码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en-US" sz="3000" spc="-1" strike="noStrike">
                <a:solidFill>
                  <a:srgbClr val="0000ff"/>
                </a:solidFill>
                <a:latin typeface="华文楷体"/>
                <a:ea typeface="华文楷体"/>
              </a:rPr>
              <a:t>07.</a:t>
            </a:r>
            <a:r>
              <a:rPr b="1" lang="zh-CN" sz="3000" spc="-1" strike="noStrike">
                <a:solidFill>
                  <a:srgbClr val="0000ff"/>
                </a:solidFill>
                <a:latin typeface="华文楷体"/>
                <a:ea typeface="华文楷体"/>
              </a:rPr>
              <a:t>联系电话</a:t>
            </a:r>
            <a:r>
              <a:rPr b="1" lang="zh-CN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填</a:t>
            </a:r>
            <a:r>
              <a:rPr b="1" lang="zh-CN" sz="3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办公地</a:t>
            </a:r>
            <a:r>
              <a:rPr b="1" lang="zh-CN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电话，要包括企业所在地的地区号码（如上海为</a:t>
            </a:r>
            <a:r>
              <a:rPr b="1" lang="en-US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021</a:t>
            </a:r>
            <a:r>
              <a:rPr b="1" lang="zh-CN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08.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英文名称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指企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集团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公开使用的英文名称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0T18:52:00Z</dcterms:created>
  <dc:creator>tjj</dc:creator>
  <dc:description/>
  <dc:language>en-US</dc:language>
  <cp:lastModifiedBy>zjs</cp:lastModifiedBy>
  <dcterms:modified xsi:type="dcterms:W3CDTF">2017-04-17T02:28:59Z</dcterms:modified>
  <cp:revision>45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38</vt:lpwstr>
  </property>
</Properties>
</file>